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9.gif" ContentType="image/gif"/>
  <Override PartName="/ppt/media/image37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2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0F7-3D86-4C11-80D4-995E32F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A8A-2FEC-4B26-B242-CCAA2AB3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576-3254-4CB2-BF99-A56040F5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AE7-6433-4C88-95D2-49579C3D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DAAD-CFD3-495B-8B57-0D46117F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0D36-D961-48C2-8516-E223398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B8F3-6AA4-41D3-B47B-9F825268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2BC0-A0DC-4970-866E-6DD562C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659F-F465-49BB-93D7-1FC85C4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0677-3496-4295-9331-5D066417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8869-BA5B-457B-B6B0-1C07555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A16-23EB-4660-9CEE-A593DA18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D7C8-131A-4143-AEE2-B75DB3A1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6308-B74C-4F8C-9698-C636AC8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CDCE-B2F3-4150-9B2C-15EE1766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7B26-14AB-4336-B3D4-F44E1594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ECCF-A0C8-4DDE-B342-EC7E2FF4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9E3-BF67-40CA-9F20-BD311185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9C1-20BD-41E5-AD42-C7BD75E8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829-6D6C-4597-8829-48C76FA5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907-AEB0-4329-A175-0C8A1F14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745-B332-4975-BD74-609156D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AE0-F3E4-40B1-B42F-FC1355A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B8B-8323-4C80-87D3-544E2EB6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4A2B4-5148-4D97-A5C3-E321AE1494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98B082-11DD-4254-A467-55F0BA2933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delsa.es/Area_profesor/TemaatemaB1/Tema_a_tema_B1_audios.rar" TargetMode="External"/><Relationship Id="rId2" Type="http://schemas.openxmlformats.org/officeDocument/2006/relationships/hyperlink" Target="http://ssl4you.blogspot.com/2008_11_01_archive.html" TargetMode="External"/><Relationship Id="rId3" Type="http://schemas.openxmlformats.org/officeDocument/2006/relationships/hyperlink" Target="http://blog.muchoviaje.com/2011/01/11/espana-y-los-espanoles-muchoviaje-com/" TargetMode="External"/><Relationship Id="rId4" Type="http://schemas.openxmlformats.org/officeDocument/2006/relationships/hyperlink" Target="http://es.wikipedia.org/wiki/Anexo:Estereotipos_seg&#250;n_la_regi&#243;n" TargetMode="External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otosearch.com/CSK005/ks102965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tosearch.com/BLD014/tc_jccsf_007552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panishpodcast.org/archivos/Spanishpodcast.xml" TargetMode="External"/><Relationship Id="rId2" Type="http://schemas.openxmlformats.org/officeDocument/2006/relationships/hyperlink" Target="http://www.elpais.com/audios/" TargetMode="External"/><Relationship Id="rId3" Type="http://schemas.openxmlformats.org/officeDocument/2006/relationships/hyperlink" Target="http://spanishpodcast.es/" TargetMode="External"/><Relationship Id="rId4" Type="http://schemas.openxmlformats.org/officeDocument/2006/relationships/hyperlink" Target="http://www.ivoox.com/" TargetMode="External"/><Relationship Id="rId5" Type="http://schemas.openxmlformats.org/officeDocument/2006/relationships/hyperlink" Target="http://www.podsonoro.com/categoria/10/" TargetMode="External"/><Relationship Id="rId6" Type="http://schemas.openxmlformats.org/officeDocument/2006/relationships/hyperlink" Target="http://www.radioteca.net/" TargetMode="External"/><Relationship Id="rId7" Type="http://schemas.openxmlformats.org/officeDocument/2006/relationships/hyperlink" Target="http://www.radioteca.net/" TargetMode="External"/><Relationship Id="rId8" Type="http://schemas.openxmlformats.org/officeDocument/2006/relationships/hyperlink" Target="http://www.audioviator.com/es/" TargetMode="External"/><Relationship Id="rId9" Type="http://schemas.openxmlformats.org/officeDocument/2006/relationships/hyperlink" Target="http://www.elpais.com/audios/" TargetMode="External"/><Relationship Id="rId10" Type="http://schemas.openxmlformats.org/officeDocument/2006/relationships/hyperlink" Target="http://www.rtve.es/" TargetMode="External"/><Relationship Id="rId11" Type="http://schemas.openxmlformats.org/officeDocument/2006/relationships/hyperlink" Target="http://www.lomastv.com/" TargetMode="External"/><Relationship Id="rId12" Type="http://schemas.openxmlformats.org/officeDocument/2006/relationships/image" Target="../media/image9.gif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udiria.com/" TargetMode="External"/><Relationship Id="rId2" Type="http://schemas.openxmlformats.org/officeDocument/2006/relationships/hyperlink" Target="http://ssl4you.blogspot.com/" TargetMode="External"/><Relationship Id="rId3" Type="http://schemas.openxmlformats.org/officeDocument/2006/relationships/hyperlink" Target="http://www.audio-lingua.eu/spip.php?article2572" TargetMode="External"/><Relationship Id="rId4" Type="http://schemas.openxmlformats.org/officeDocument/2006/relationships/hyperlink" Target="http://www.ticele.es/" TargetMode="External"/><Relationship Id="rId5" Type="http://schemas.openxmlformats.org/officeDocument/2006/relationships/hyperlink" Target="http://www.avueltasconele.com/" TargetMode="External"/><Relationship Id="rId6" Type="http://schemas.openxmlformats.org/officeDocument/2006/relationships/hyperlink" Target="http://www.practicaespanol.com/es/espana/sec/6/?page=2" TargetMode="External"/><Relationship Id="rId7" Type="http://schemas.openxmlformats.org/officeDocument/2006/relationships/hyperlink" Target="http://www.ver-taal.com/" TargetMode="External"/><Relationship Id="rId8" Type="http://schemas.openxmlformats.org/officeDocument/2006/relationships/hyperlink" Target="http://lab.chass.utoronto.ca/rescentre/spanish/" TargetMode="External"/><Relationship Id="rId9" Type="http://schemas.openxmlformats.org/officeDocument/2006/relationships/hyperlink" Target="http://www.podcastsinspanish.org/pages/level2.shtml" TargetMode="External"/><Relationship Id="rId10" Type="http://schemas.openxmlformats.org/officeDocument/2006/relationships/hyperlink" Target="http://giraldablog.wordpress.com/" TargetMode="External"/><Relationship Id="rId11" Type="http://schemas.openxmlformats.org/officeDocument/2006/relationships/hyperlink" Target="http://www.lapasserelle.com/sm/esp90mp3/index-eng.php" TargetMode="External"/><Relationship Id="rId12" Type="http://schemas.openxmlformats.org/officeDocument/2006/relationships/hyperlink" Target="http://www.lengalia.com/es/aprender-espanol-gratis/podcasts-espanol.html-" TargetMode="External"/><Relationship Id="rId13" Type="http://schemas.openxmlformats.org/officeDocument/2006/relationships/hyperlink" Target="http://www.youtube.com/user/L2pack" TargetMode="External"/><Relationship Id="rId14" Type="http://schemas.openxmlformats.org/officeDocument/2006/relationships/hyperlink" Target="http://www.youtube.com/user/L2pack" TargetMode="External"/><Relationship Id="rId15" Type="http://schemas.openxmlformats.org/officeDocument/2006/relationships/hyperlink" Target="http://www.radialistas.net/clip.php?id=1700052" TargetMode="External"/><Relationship Id="rId16" Type="http://schemas.openxmlformats.org/officeDocument/2006/relationships/hyperlink" Target="http://www.videoele.com/zona_profesores.html" TargetMode="External"/><Relationship Id="rId17" Type="http://schemas.openxmlformats.org/officeDocument/2006/relationships/hyperlink" Target="http://www.veintemundos.com/" TargetMode="External"/><Relationship Id="rId18" Type="http://schemas.openxmlformats.org/officeDocument/2006/relationships/hyperlink" Target="http://www.sgci.mec.es/uk/Pub/mat.html" TargetMode="External"/><Relationship Id="rId19" Type="http://schemas.openxmlformats.org/officeDocument/2006/relationships/image" Target="../media/image10.jpe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balearning.com/audiolibros/esopo/fab-002.html" TargetMode="External"/><Relationship Id="rId2" Type="http://schemas.openxmlformats.org/officeDocument/2006/relationships/hyperlink" Target="http://www.audiolibrosespanol.com/" TargetMode="External"/><Relationship Id="rId3" Type="http://schemas.openxmlformats.org/officeDocument/2006/relationships/hyperlink" Target="http://www.audiolibrosgratis.org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"/>
          <p:cNvPicPr/>
          <p:nvPr/>
        </p:nvPicPr>
        <p:blipFill>
          <a:blip r:embed="rId1"/>
          <a:stretch/>
        </p:blipFill>
        <p:spPr>
          <a:xfrm>
            <a:off x="179640" y="232200"/>
            <a:ext cx="2742840" cy="183636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5" descr="fandango.jpg"/>
          <p:cNvPicPr/>
          <p:nvPr/>
        </p:nvPicPr>
        <p:blipFill>
          <a:blip r:embed="rId2"/>
          <a:stretch/>
        </p:blipFill>
        <p:spPr>
          <a:xfrm>
            <a:off x="6084000" y="461520"/>
            <a:ext cx="1725120" cy="1377720"/>
          </a:xfrm>
          <a:prstGeom prst="rect">
            <a:avLst/>
          </a:prstGeom>
          <a:ln w="9525">
            <a:noFill/>
          </a:ln>
        </p:spPr>
      </p:pic>
      <p:pic>
        <p:nvPicPr>
          <p:cNvPr id="84" name="Рисунок 10" descr=""/>
          <p:cNvPicPr/>
          <p:nvPr/>
        </p:nvPicPr>
        <p:blipFill>
          <a:blip r:embed="rId3"/>
          <a:stretch/>
        </p:blipFill>
        <p:spPr>
          <a:xfrm>
            <a:off x="467640" y="4825440"/>
            <a:ext cx="1692000" cy="172692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640" y="2068920"/>
            <a:ext cx="8856720" cy="156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lang="ru-RU" sz="3600" spc="-1" strike="noStrike">
                <a:solidFill>
                  <a:schemeClr val="accent1">
                    <a:lumMod val="50000"/>
                  </a:schemeClr>
                </a:solidFill>
                <a:latin typeface="Bookman Old Style"/>
              </a:rPr>
              <a:t>ИСПОЛЬЗОВАНИЕ ПОДКАСТОВ В </a:t>
            </a: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50000"/>
                  </a:schemeClr>
                </a:solidFill>
                <a:latin typeface="Bookman Old Style"/>
              </a:rPr>
              <a:t>ПОДГОТОВКЕ УЧАЩИХСЯ К УСТНОМУ ЭКЗАМЕНУ ПО ИСПАНСКОМУ ЯЗЫКУ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1"/>
          <p:cNvSpPr/>
          <p:nvPr/>
        </p:nvSpPr>
        <p:spPr>
          <a:xfrm>
            <a:off x="3420000" y="4293000"/>
            <a:ext cx="5472360" cy="230400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Georgia"/>
              </a:rPr>
              <a:t>Презентация выполнена учительницей испан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Georgia"/>
              </a:rPr>
              <a:t>«ГУО средняя школа № 13 города Могиле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Georgia"/>
              </a:rPr>
              <a:t>Яблонской Еленой Иван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1"/>
          <p:cNvSpPr/>
          <p:nvPr/>
        </p:nvSpPr>
        <p:spPr>
          <a:xfrm>
            <a:off x="395640" y="260640"/>
            <a:ext cx="8424720" cy="61923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Технология работы с подкастом совпадает с технологией работы с аудиотекстом и имеет четкую последовательность действий преподавателя и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едварительный инструктаж и предварительное зад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оцесс восприятия и осмысления информации подка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задания, контролирующие понимание услышанного тек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092360" y="504900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кругленный прямоугольник 1"/>
          <p:cNvSpPr/>
          <p:nvPr/>
        </p:nvSpPr>
        <p:spPr>
          <a:xfrm>
            <a:off x="251640" y="332640"/>
            <a:ext cx="8640720" cy="60483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4"/>
                </a:solidFill>
                <a:latin typeface="Calibri"/>
              </a:rPr>
              <a:t>Подкасты могут использовать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1. Прослушивание подкаста на уроке в соответствии с алгоритмом работы с аудио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2. Прослушивание подкастов в качестве домашнего задания с последующим обсуждением на уроке. Для этого учитель должен предварительно подготовить учащихся к восприятию аудиотекста: ввести новые слова, выполнить предтекстовые задания. Задания должны быть составлены таким образом, чтобы мотивировать учащихся на прослушивание текста д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3. Прослушивание подкастов с опорой на текст (скрип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4. Просмотр видеофильма, сопровождающего подкаст и работа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5. Просмотр видеофильма с опорой на текст (скрип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218800" cy="119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ак подкасты помогают сделать преподавание иностранного языка более содержательным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1640" y="1052640"/>
            <a:ext cx="843480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234360" y="1112400"/>
            <a:ext cx="8640720" cy="56163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be-BY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 методической точки зрения при использовании подкаста урок становится более содержательным и интересным, так как учащиеся получают информацию по актуальным темам, обогащают словарный запас и развивают навыки говорения. И в результате, они перестают бояться говорить на иностранном язы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be-BY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дкаст обеспечивает автономное обучение, взаимодействующее с традиционным уроком благодаря дидактической интеграции современных технологий. Преподавание не ограничено только классно-урочным форм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be-BY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Благодаря подкасту возможен дифференцированный подход в изучении иностранного языка в зависимости от индивидуальных возможностей учащихся.  Записи можно прослушать в замедленном или оригинальном темпе необходимое количество раз. Учащиеся не ограничены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be-BY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аботу можно выполнять самостоятельно как домашнее зад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93080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chemeClr val="accent4"/>
                </a:solidFill>
                <a:latin typeface="Calibri"/>
              </a:rPr>
              <a:t>СЦЕНАРИИ УРОКОВ "Стереотипы.  Национальный характер". "Особенности национального характера испанцев. "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268640"/>
            <a:ext cx="857880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1 урок           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ереотипы.  Национальный характер</a:t>
            </a: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На уроке рассматриваются концепт «стереотипы», причины возникновения стереотипов, всегда ли стереотипы соответствуют действительност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2- 3  уроки      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Особенности национального характера испанцев</a:t>
            </a: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На этих уроках формируется коммуникативная компетенция ( умения восприятия и понимания испанской речи на слух и навыки говорения) по теме «Особенности национального характера испанцев». Ведется дискуссия по стереотипам национального характера разных регионов Испании на основе подкаста,  видеофильма и текстов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4-5 уроки        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Особенности национального характера белорусов</a:t>
            </a:r>
            <a:r>
              <a:rPr b="1" lang="ru-RU" sz="1600" spc="-1" strike="noStrike">
                <a:solidFill>
                  <a:srgbClr val="10243e"/>
                </a:solidFill>
                <a:latin typeface="Calibri"/>
              </a:rPr>
              <a:t>. Учащиеся работают над текстом и пишут эссе по теме</a:t>
            </a:r>
            <a:r>
              <a:rPr b="1" lang="es-ES" sz="1600" spc="-1" strike="noStrike">
                <a:solidFill>
                  <a:srgbClr val="10243e"/>
                </a:solidFill>
                <a:latin typeface="Calibri"/>
              </a:rPr>
              <a:t>  "Existen muchos estereotipos respecto al carácter nacional como de los bielorrusos tanto de los españoles. ¿De qué estereotipos se trata y cuál es su opinión?"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Экзаменационные ситуации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>
                <a:solidFill>
                  <a:srgbClr val="10243e"/>
                </a:solidFill>
                <a:latin typeface="Calibri"/>
              </a:rPr>
              <a:t>1. Existen muchos estereotipos respecto al carácter nacional como de los bielorrusos tanto de los españoles. ¿De qué estereotipos se trata y cuál es su opinión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>
                <a:solidFill>
                  <a:srgbClr val="10243e"/>
                </a:solidFill>
                <a:latin typeface="Calibri"/>
              </a:rPr>
              <a:t>2. ¿Está usted de acuerdo que todos los españoles son holgazanes? ¿Por qué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>
                <a:solidFill>
                  <a:srgbClr val="10243e"/>
                </a:solidFill>
                <a:latin typeface="Calibri"/>
              </a:rPr>
              <a:t>3. ¿Qué le interesaría preguntar sobre el carácter nacional de los españoles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>
                <a:solidFill>
                  <a:srgbClr val="10243e"/>
                </a:solidFill>
                <a:latin typeface="Calibri"/>
              </a:rPr>
              <a:t>4. ¿ Cómo aconsejaría portarse al extranjero en España, para no tener situaciones desagradables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>
                <a:solidFill>
                  <a:srgbClr val="10243e"/>
                </a:solidFill>
                <a:latin typeface="Calibri"/>
              </a:rPr>
              <a:t>5.¿Qué preguntaría sobre la corrida de toros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>
                <a:solidFill>
                  <a:srgbClr val="10243e"/>
                </a:solidFill>
                <a:latin typeface="Calibri"/>
              </a:rPr>
              <a:t>6.¿Qué aconsejaría a la persona que quisiera saber más sobre las tradiciones del pueblo español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7640" y="116640"/>
            <a:ext cx="8146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4"/>
                </a:solidFill>
                <a:latin typeface="Calibri"/>
              </a:rPr>
              <a:t>УРОК 1. </a:t>
            </a:r>
            <a:br>
              <a:rPr sz="2800"/>
            </a:br>
            <a:r>
              <a:rPr b="1" lang="ru-RU" sz="2800" spc="-1" strike="noStrike" cap="all">
                <a:solidFill>
                  <a:schemeClr val="accent4"/>
                </a:solidFill>
                <a:latin typeface="Calibri"/>
              </a:rPr>
              <a:t>Тема урока: </a:t>
            </a:r>
            <a:r>
              <a:rPr b="1" lang="en-US" sz="2800" spc="-1" strike="noStrike" cap="all">
                <a:solidFill>
                  <a:schemeClr val="accent4"/>
                </a:solidFill>
                <a:latin typeface="Calibri"/>
              </a:rPr>
              <a:t>TÍPICOS TÓPICOS. ESTEREOTIPOS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225720" y="912240"/>
            <a:ext cx="1871640" cy="140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2342520" y="931680"/>
            <a:ext cx="1818360" cy="136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4477320" y="885240"/>
            <a:ext cx="1883880" cy="141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4"/>
          <a:stretch/>
        </p:blipFill>
        <p:spPr>
          <a:xfrm>
            <a:off x="6710040" y="848880"/>
            <a:ext cx="1931760" cy="145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5"/>
          <a:stretch/>
        </p:blipFill>
        <p:spPr>
          <a:xfrm>
            <a:off x="183600" y="2354400"/>
            <a:ext cx="1931760" cy="145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6"/>
          <a:stretch/>
        </p:blipFill>
        <p:spPr>
          <a:xfrm>
            <a:off x="2303280" y="2392920"/>
            <a:ext cx="1834920" cy="1377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7"/>
          <a:stretch/>
        </p:blipFill>
        <p:spPr>
          <a:xfrm>
            <a:off x="4477320" y="2392920"/>
            <a:ext cx="1785600" cy="134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8"/>
          <a:stretch/>
        </p:blipFill>
        <p:spPr>
          <a:xfrm>
            <a:off x="6710040" y="2348280"/>
            <a:ext cx="1841040" cy="1377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"/>
          <p:cNvPicPr/>
          <p:nvPr/>
        </p:nvPicPr>
        <p:blipFill>
          <a:blip r:embed="rId9"/>
          <a:stretch/>
        </p:blipFill>
        <p:spPr>
          <a:xfrm>
            <a:off x="183600" y="3836160"/>
            <a:ext cx="1788480" cy="134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10"/>
          <a:stretch/>
        </p:blipFill>
        <p:spPr>
          <a:xfrm>
            <a:off x="2342520" y="3836160"/>
            <a:ext cx="1841040" cy="1377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11"/>
          <a:stretch/>
        </p:blipFill>
        <p:spPr>
          <a:xfrm>
            <a:off x="4496760" y="3836160"/>
            <a:ext cx="1841040" cy="1377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12"/>
          <a:stretch/>
        </p:blipFill>
        <p:spPr>
          <a:xfrm>
            <a:off x="6697440" y="3818880"/>
            <a:ext cx="1841040" cy="137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13"/>
          <a:stretch/>
        </p:blipFill>
        <p:spPr>
          <a:xfrm>
            <a:off x="228960" y="5373360"/>
            <a:ext cx="1841040" cy="137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"/>
          <p:cNvPicPr/>
          <p:nvPr/>
        </p:nvPicPr>
        <p:blipFill>
          <a:blip r:embed="rId14"/>
          <a:stretch/>
        </p:blipFill>
        <p:spPr>
          <a:xfrm>
            <a:off x="2342520" y="5373360"/>
            <a:ext cx="1841040" cy="137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"/>
          <p:cNvPicPr/>
          <p:nvPr/>
        </p:nvPicPr>
        <p:blipFill>
          <a:blip r:embed="rId15"/>
          <a:stretch/>
        </p:blipFill>
        <p:spPr>
          <a:xfrm>
            <a:off x="4477320" y="5342760"/>
            <a:ext cx="1785600" cy="134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"/>
          <p:cNvPicPr/>
          <p:nvPr/>
        </p:nvPicPr>
        <p:blipFill>
          <a:blip r:embed="rId16"/>
          <a:stretch/>
        </p:blipFill>
        <p:spPr>
          <a:xfrm>
            <a:off x="6678360" y="5324400"/>
            <a:ext cx="18410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188640"/>
            <a:ext cx="6828120" cy="352332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3"/>
          <p:cNvSpPr/>
          <p:nvPr/>
        </p:nvSpPr>
        <p:spPr>
          <a:xfrm>
            <a:off x="2068200" y="3831840"/>
            <a:ext cx="7056360" cy="2880000"/>
          </a:xfrm>
          <a:prstGeom prst="ellipse">
            <a:avLst/>
          </a:prstGeom>
          <a:solidFill>
            <a:srgbClr val="ffff66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1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Discusión sobre el tema de examen o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1.“Los españoles son muy vagos”. Existe la idea de que en España se trabaja menos que en otros países. Demuestra que no es cie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2.¿Qué preguntaría sobre la corrida de to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.¿Qué aconsejaría a la persona que quisiera saber más sobre las tradiciones del pueblo españ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8480" y="274680"/>
            <a:ext cx="807516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4"/>
                </a:solidFill>
                <a:latin typeface="Calibri"/>
              </a:rPr>
              <a:t>Работа с песней</a:t>
            </a:r>
            <a:r>
              <a:rPr b="1" lang="en-US" sz="2800" spc="-1" strike="noStrike" cap="all">
                <a:solidFill>
                  <a:schemeClr val="accent4"/>
                </a:solidFill>
                <a:latin typeface="Calibri"/>
              </a:rPr>
              <a:t>« YO SOY DEL SUR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79640" y="980640"/>
            <a:ext cx="4571640" cy="343188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ый прямоугольник 9"/>
          <p:cNvSpPr/>
          <p:nvPr/>
        </p:nvSpPr>
        <p:spPr>
          <a:xfrm>
            <a:off x="5076000" y="3357000"/>
            <a:ext cx="3851640" cy="331200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Yo soy así, y tienen que compr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y tienen que comprender, que mis costumbres son esa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y no las quiero pe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3640" y="274680"/>
            <a:ext cx="800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800" spc="-1" strike="noStrike" cap="all">
                <a:solidFill>
                  <a:schemeClr val="accent4"/>
                </a:solidFill>
                <a:latin typeface="Calibri"/>
              </a:rPr>
              <a:t>УРОК 2.</a:t>
            </a:r>
            <a:br>
              <a:rPr sz="2800"/>
            </a:br>
            <a:r>
              <a:rPr b="1" lang="es-ES" sz="2800" spc="-1" strike="noStrike" cap="all">
                <a:solidFill>
                  <a:schemeClr val="accent4"/>
                </a:solidFill>
                <a:latin typeface="Calibri"/>
              </a:rPr>
              <a:t>Тема  урока EL CARÁCTER NACIONAL DE LOS ESPAÑOLES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640" y="908640"/>
            <a:ext cx="878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ьзуемые ресурсы Интернета: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каст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delsa.es/Area_profesor/TemaatemaB1/Tema_a_tema_B1_audios.rar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sl4you.blogspot.com/2008_11_01_archive.html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Виде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You Tube " Tópicos de España", rtv.es " Viajeros, que rompen tópicos"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Ресурс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.muchoviaje.com/2011/01/11/espana-y-los-espanoles-muchoviaje-com/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s-E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s.wikipedia.org/wiki/Anexo:Estereotipos_según_la_región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5"/>
          <a:stretch/>
        </p:blipFill>
        <p:spPr>
          <a:xfrm>
            <a:off x="3292920" y="4275000"/>
            <a:ext cx="1771200" cy="571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6"/>
          <a:stretch/>
        </p:blipFill>
        <p:spPr>
          <a:xfrm>
            <a:off x="3392280" y="3515760"/>
            <a:ext cx="1552320" cy="390240"/>
          </a:xfrm>
          <a:prstGeom prst="rect">
            <a:avLst/>
          </a:prstGeom>
          <a:ln w="0">
            <a:noFill/>
          </a:ln>
        </p:spPr>
      </p:pic>
      <p:cxnSp>
        <p:nvCxnSpPr>
          <p:cNvPr id="145" name="Прямая со стрелкой 4"/>
          <p:cNvCxnSpPr>
            <a:stCxn id="143" idx="0"/>
          </p:cNvCxnSpPr>
          <p:nvPr/>
        </p:nvCxnSpPr>
        <p:spPr>
          <a:xfrm flipH="1" flipV="1">
            <a:off x="4168440" y="3920400"/>
            <a:ext cx="10800" cy="3549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pic>
        <p:nvPicPr>
          <p:cNvPr id="146" name="Picture 4" descr=""/>
          <p:cNvPicPr/>
          <p:nvPr/>
        </p:nvPicPr>
        <p:blipFill>
          <a:blip r:embed="rId7"/>
          <a:stretch/>
        </p:blipFill>
        <p:spPr>
          <a:xfrm>
            <a:off x="5436000" y="4209840"/>
            <a:ext cx="1523520" cy="390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8"/>
          <a:stretch/>
        </p:blipFill>
        <p:spPr>
          <a:xfrm>
            <a:off x="1475640" y="4179960"/>
            <a:ext cx="1552320" cy="38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9"/>
          <a:stretch/>
        </p:blipFill>
        <p:spPr>
          <a:xfrm>
            <a:off x="1729080" y="5092920"/>
            <a:ext cx="1533240" cy="352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10"/>
          <a:stretch/>
        </p:blipFill>
        <p:spPr>
          <a:xfrm>
            <a:off x="3407400" y="5445360"/>
            <a:ext cx="1657080" cy="34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11"/>
          <a:stretch/>
        </p:blipFill>
        <p:spPr>
          <a:xfrm>
            <a:off x="5195520" y="4968000"/>
            <a:ext cx="1638000" cy="380520"/>
          </a:xfrm>
          <a:prstGeom prst="rect">
            <a:avLst/>
          </a:prstGeom>
          <a:ln w="0">
            <a:noFill/>
          </a:ln>
        </p:spPr>
      </p:pic>
      <p:cxnSp>
        <p:nvCxnSpPr>
          <p:cNvPr id="151" name="Прямая со стрелкой 14"/>
          <p:cNvCxnSpPr/>
          <p:nvPr/>
        </p:nvCxnSpPr>
        <p:spPr>
          <a:xfrm flipV="1">
            <a:off x="5013360" y="4368960"/>
            <a:ext cx="430560" cy="1281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2" name="Прямая со стрелкой 16"/>
          <p:cNvCxnSpPr/>
          <p:nvPr/>
        </p:nvCxnSpPr>
        <p:spPr>
          <a:xfrm>
            <a:off x="4692600" y="4773960"/>
            <a:ext cx="504360" cy="2466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3" name="Прямая со стрелкой 18"/>
          <p:cNvCxnSpPr>
            <a:stCxn id="143" idx="2"/>
            <a:endCxn id="149" idx="0"/>
          </p:cNvCxnSpPr>
          <p:nvPr/>
        </p:nvCxnSpPr>
        <p:spPr>
          <a:xfrm>
            <a:off x="4178880" y="4846320"/>
            <a:ext cx="57240" cy="5990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4" name="Прямая со стрелкой 20"/>
          <p:cNvCxnSpPr/>
          <p:nvPr/>
        </p:nvCxnSpPr>
        <p:spPr>
          <a:xfrm flipH="1">
            <a:off x="3027960" y="4793400"/>
            <a:ext cx="608040" cy="2995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5" name="Прямая со стрелкой 22"/>
          <p:cNvCxnSpPr/>
          <p:nvPr/>
        </p:nvCxnSpPr>
        <p:spPr>
          <a:xfrm flipH="1" flipV="1">
            <a:off x="2964600" y="4341600"/>
            <a:ext cx="364320" cy="126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3640" y="274680"/>
            <a:ext cx="800280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chemeClr val="accent4"/>
                </a:solidFill>
                <a:latin typeface="Calibri"/>
              </a:rPr>
              <a:t>EL DEBATE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640" y="908640"/>
            <a:ext cx="8290800" cy="521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En grupos opinad sobre las diferencias entre lo que pensáis de las personas de ese país y lo que dicen ellos sobre sí mismos. Comparad la información que habéis obtenido de audiotexto, video y texto de lectura. ¿Los tópicos son reales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: -</a:t>
            </a:r>
            <a:r>
              <a:rPr b="0" i="1" lang="es-ES" sz="3200" spc="-1" strike="noStrike">
                <a:solidFill>
                  <a:srgbClr val="4a452a"/>
                </a:solidFill>
                <a:latin typeface="Calibri"/>
              </a:rPr>
              <a:t>Pues… yo creo que la mayoría de los españoles no son impuntuales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ES" sz="3200" spc="-1" strike="noStrike">
                <a:solidFill>
                  <a:srgbClr val="4a452a"/>
                </a:solidFill>
                <a:latin typeface="Calibri"/>
              </a:rPr>
              <a:t>-Sí, yo también lo creo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Existen muchos estereotipos respecto al carácter nacional como de los bielorrusos tanto de los españoles. ¿De qué estereotipos se trata y cuál es su opinión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1920" y="193680"/>
            <a:ext cx="7911720" cy="100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chemeClr val="accent4"/>
                </a:solidFill>
                <a:latin typeface="Calibri"/>
              </a:rPr>
              <a:t>ВЫВОД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кругленный прямоугольник 3"/>
          <p:cNvSpPr/>
          <p:nvPr/>
        </p:nvSpPr>
        <p:spPr>
          <a:xfrm>
            <a:off x="528480" y="1107000"/>
            <a:ext cx="7920360" cy="5025600"/>
          </a:xfrm>
          <a:prstGeom prst="roundRect">
            <a:avLst>
              <a:gd name="adj" fmla="val 17787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49" strike="noStrike">
                <a:solidFill>
                  <a:srgbClr val="10243e"/>
                </a:solidFill>
                <a:latin typeface="Calibri"/>
              </a:rPr>
              <a:t>В процессе обучения иностранному языку технология подкастинга может послужить отличным сопутствующим средством для решения различных методических задач: формирования аудитивных навыков и умений понимания иноязычной речи на слух, формирования и совершенствования навыков произношения, расширения и обогащения лексического словаря, формирования и совершенствования грамматических навыков, развития навыков говорения и письмен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49" strike="noStrike">
                <a:solidFill>
                  <a:srgbClr val="10243e"/>
                </a:solidFill>
                <a:latin typeface="Calibri"/>
              </a:rPr>
              <a:t>Подкаст как медианоситель информации является, наряду с другими ресурсами, неотъемлемым техническим средством обучения иностранному языку, позволяющим решать комплексные задачи иноязыч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1640" y="1268640"/>
            <a:ext cx="850068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Целью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данной работы является исследование дидактических возможностей подкастов при обучении учащихся старших классов аудированию и говорению на основе аудиотекстов ( подготовка учащихся к устному экзамену по испанскому языку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icture 27">
            <a:hlinkClick r:id="rId1"/>
          </p:cNvPr>
          <p:cNvSpPr/>
          <p:nvPr/>
        </p:nvSpPr>
        <p:spPr>
          <a:xfrm>
            <a:off x="6444360" y="4692960"/>
            <a:ext cx="2266560" cy="15062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icture 2"/>
          <p:cNvSpPr/>
          <p:nvPr/>
        </p:nvSpPr>
        <p:spPr>
          <a:xfrm>
            <a:off x="611640" y="4705200"/>
            <a:ext cx="2015640" cy="151164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олнце 1"/>
          <p:cNvSpPr/>
          <p:nvPr/>
        </p:nvSpPr>
        <p:spPr>
          <a:xfrm>
            <a:off x="539640" y="476640"/>
            <a:ext cx="7632360" cy="568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cf2e2b"/>
                </a:solidFill>
                <a:latin typeface="Calibri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"/>
          <p:cNvSpPr/>
          <p:nvPr/>
        </p:nvSpPr>
        <p:spPr>
          <a:xfrm>
            <a:off x="323640" y="476640"/>
            <a:ext cx="8424720" cy="59043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Данная работа состоит 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1.Теоретического обоснования необходимости использования подкастов при подготовке к устному экзам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2. Практической части, в которой представлен опыт работы по использованию подкастов на уроках испанского языка в 11 классе по темам «Национальный характер» и  « Туризм»   в виде сценариев уроков</a:t>
            </a:r>
            <a:r>
              <a:rPr b="1" lang="ru-RU" sz="1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1"/>
          <p:cNvSpPr/>
          <p:nvPr/>
        </p:nvSpPr>
        <p:spPr>
          <a:xfrm>
            <a:off x="341280" y="314640"/>
            <a:ext cx="8568720" cy="61923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Восприятие и понимание  иноязычной речи на слух на экзамене предполагает наличие у учащих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ru-RU" sz="3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мений «слушать», «слышать» с целью извлечения необходимой информации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ru-RU" sz="3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мений высказывать свою точку зрения по услышанном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ru-RU" sz="3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мений передавать речь от третьего лиц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03152"/>
              </a:buClr>
              <a:buFont typeface="Wingdings" charset="2"/>
              <a:buChar char=""/>
            </a:pPr>
            <a:r>
              <a:rPr b="1" lang="ru-RU" sz="3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мпенсаторных ум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481520" y="511128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кругленный прямоугольник 1"/>
          <p:cNvSpPr/>
          <p:nvPr/>
        </p:nvSpPr>
        <p:spPr>
          <a:xfrm>
            <a:off x="467640" y="692640"/>
            <a:ext cx="8208720" cy="5472360"/>
          </a:xfrm>
          <a:prstGeom prst="roundRect">
            <a:avLst>
              <a:gd name="adj" fmla="val 16667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10243e"/>
                </a:solidFill>
                <a:latin typeface="Calibri"/>
              </a:rPr>
              <a:t>В процессе работы над аудиотекстами формируются навыки говорения. Очень важно при подготовке учащихся к устному экзамену отбирать такие аудиотексты, которые могут стать основой для высказывания по той или иной коммуникативной ситуа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6" descr="tc_JCCSF_007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520" y="4770360"/>
            <a:ext cx="1558440" cy="2087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1640" y="476640"/>
            <a:ext cx="8712720" cy="590436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дкастинг  </a:t>
            </a:r>
            <a:r>
              <a:rPr b="1" lang="ru-RU" sz="2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(англ. podcasting, от iPod и англ. broadcasting </a:t>
            </a:r>
            <a:r>
              <a:rPr b="1" lang="ru-RU" sz="2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— повсеместное, широкоформатное вещание)  – актуальная интернет-технология для целей обучения иностранным языкам. Она представляет собой синтез преимуществ радио и интернета, это процесс создания аудио- и видеофайлов (подкастов), которые, как правило, характеризуются периодичностью издания. Подкаст является аудиотекстом какого-либо жанра, определённой временной протяжённости, в некоторых случаях, сопровождаемый видеоматериалом. Тематика и жанры подкастов чрезвычайно разнообразны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4346640"/>
            <a:ext cx="3163680" cy="25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22924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r>
              <a:rPr b="1" lang="ru-RU" sz="3100" spc="-1" strike="noStrike">
                <a:solidFill>
                  <a:srgbClr val="008000"/>
                </a:solidFill>
                <a:latin typeface="Arial Black"/>
              </a:rPr>
              <a:t>Коллекция подкастов для преподавателей испанского языка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3920" y="548640"/>
            <a:ext cx="866844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Аутентичные подкасты</a:t>
            </a: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0243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43e"/>
                </a:solidFill>
                <a:latin typeface="Calibri"/>
              </a:rPr>
              <a:t>Это- подкасты газет, радио, телевидения и т.д. Аутентичные подкасты чаще всего не являются подкастами для обучения¸ но являются богатейшим материалом для развития умения восприятия и понимания речи на слух. Большинство из них могут быть подходящими для учащихся, владеющими языком на достаточном уровне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panishpodcast.org/archivos/Spanishpodcast.xm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lpais.com/audios/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panishpodcast.es/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voox.com/#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podsonoro.com/categoria/10/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radioteca.net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audioviator.com/es/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elpais.com/audios/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0243e"/>
                </a:solidFill>
                <a:latin typeface="Calibri"/>
              </a:rPr>
              <a:t>Для работы на уроке можно использовать видеоподкасты испанского телевидения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rtve.e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 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lomastv.com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6721E3-FF7D-4E40-9DD3-23D68B73EEEA}" type="slidenum">
              <a:rPr b="0" lang="ru-RU" sz="1200" spc="-1" strike="noStrike">
                <a:solidFill>
                  <a:srgbClr val="8b8b8b"/>
                </a:solidFill>
                <a:latin typeface="Arial"/>
                <a:ea typeface="ＭＳ Ｐゴシック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4" descr="RADIOTECA"/>
          <p:cNvPicPr/>
          <p:nvPr/>
        </p:nvPicPr>
        <p:blipFill>
          <a:blip r:embed="rId12"/>
          <a:stretch/>
        </p:blipFill>
        <p:spPr>
          <a:xfrm>
            <a:off x="5940000" y="3442680"/>
            <a:ext cx="1904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5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Коллекция подкастов для преподавателей испанского язы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8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дкасты, посвященные изучению испанского язы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Это подкасты, которые создаются с прямой целью обучения. Такие подкасты очень надежны и имеют высокое качество. Большинство подкастов имеют скрипты и упражнения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diria.com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sl4you.blogspot.com/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udio-lingua.eu/spip.php?article2572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ticele.es/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avueltasconele.com/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practicaespanol.com/es/espana/sec/6/?page=2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ver-taal.com/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lab.chass.utoronto.ca/rescentre/spanish/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podcastsinspanish.org/pages/level2.shtml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iraldablog.wordpress.com/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apasserelle.com/sm/esp90mp3/index-eng.php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lengalia.com/es/aprender-espanol-gratis/podcasts-espanol.html-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://www.youtube.com/user/L2pack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radialistas.net/clip.php?id=1700052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videoele.com/zona_profesores.html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10243e"/>
                </a:solidFill>
                <a:latin typeface="Calibri"/>
              </a:rPr>
              <a:t>Обучающие подкасты можно найти в аудиожурналах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veintemundos.com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sgci.mec.es/uk/Pub/mat.htm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журнал </a:t>
            </a: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Tecla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5" descr="http://www.avueltasconele.com/wp-content/uploads/2008/07/PodcastLogo-300x241.jpg"/>
          <p:cNvPicPr/>
          <p:nvPr/>
        </p:nvPicPr>
        <p:blipFill>
          <a:blip r:embed="rId19"/>
          <a:stretch/>
        </p:blipFill>
        <p:spPr>
          <a:xfrm>
            <a:off x="7092360" y="3057480"/>
            <a:ext cx="1714320" cy="1367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20"/>
          <a:stretch/>
        </p:blipFill>
        <p:spPr>
          <a:xfrm>
            <a:off x="3178800" y="6381360"/>
            <a:ext cx="5940000" cy="409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"/>
          <p:cNvPicPr/>
          <p:nvPr/>
        </p:nvPicPr>
        <p:blipFill>
          <a:blip r:embed="rId21"/>
          <a:stretch/>
        </p:blipFill>
        <p:spPr>
          <a:xfrm>
            <a:off x="5508000" y="4869000"/>
            <a:ext cx="2276280" cy="809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"/>
          <p:cNvPicPr/>
          <p:nvPr/>
        </p:nvPicPr>
        <p:blipFill>
          <a:blip r:embed="rId22"/>
          <a:stretch/>
        </p:blipFill>
        <p:spPr>
          <a:xfrm>
            <a:off x="4815360" y="1845000"/>
            <a:ext cx="2666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d78bb"/>
                </a:solidFill>
                <a:latin typeface="Cambria"/>
              </a:rPr>
              <a:t>                             </a:t>
            </a:r>
            <a:r>
              <a:rPr b="1" lang="ru-RU" sz="4000" spc="-1" strike="noStrike" cap="all">
                <a:solidFill>
                  <a:srgbClr val="4d78bb"/>
                </a:solidFill>
                <a:latin typeface="Times New Roman"/>
              </a:rPr>
              <a:t>АУДИОКНИГИ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700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Лучше всего использовать на уроках короткие фабульные рассказы Эзопа, рассказы испанских автор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lbalearning.com/audiolibros/esopo/fab-002.htm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audiolibrosespanol.com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audiolibrosgratis.org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удиокниги повышают качество языкового навыка и грамотность. Они формируют словарный запас, стимулируют воображение, повышают беглость чтения. При помощи аудиокниг можно ознакомиться с частотными структурами предложения, моделями произнош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705400" cy="26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  <Words>1345</Words>
  <Paragraphs>1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8:21:07Z</dcterms:created>
  <dc:creator>User</dc:creator>
  <dc:description/>
  <dc:language>en-US</dc:language>
  <cp:lastModifiedBy>Aly</cp:lastModifiedBy>
  <dcterms:modified xsi:type="dcterms:W3CDTF">2012-12-19T21:05:14Z</dcterms:modified>
  <cp:revision>63</cp:revision>
  <dc:subject/>
  <dc:title>f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