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1AF-0104-4099-A4F6-3E6CE1174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543-B033-4473-A1EF-D0D62B7B7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CBE3-8851-4BC7-AA9C-091755EB1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DBC-AC63-41FC-935B-920BE21D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A5C-B0AD-4EF7-A267-5119B08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3E4-DE97-4688-85A1-42611172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49E-77F9-4260-A64D-67AE2805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F4D-42C5-4597-ACC7-E8A5DF84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1CC8-9C8F-4BE2-84ED-5B34523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DAB-4C2F-4BE9-8AAC-AAAF168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6705-F65A-47E9-95D2-47B35F3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7AD-EE80-41C6-995B-E59D9E3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90D-7586-4687-93B4-869A274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336-B51A-4C90-85E3-A0E2915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5CD-CFEB-420D-9E1C-0311D95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DC8-1ECC-4656-A435-9423C87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4C0C-34E0-489F-905B-DD88BE06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E26-0192-4BC8-A213-F3CB0B0E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EE8-626C-4B29-9120-EEC4DC61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2F8-D6FD-42BE-9D85-63546F97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D6D6-227B-4E6D-9C5C-F552DF6F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C03A-216D-4F3A-BF69-D9F59572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6536-D4C9-414D-A532-ED50EC5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FBC8-9401-4C83-9071-23911FAB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757A-9EC0-4A96-95AE-69487C97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422-1FF2-4E4E-9010-914501DD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D71A-C5B3-4350-BAF9-504C2DA6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B2F8-7342-443A-82F9-98E05AE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64CD-6044-4A50-A33A-19BB11A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1264-F3C1-4686-AB1F-2D2BB04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C2AE-7B1B-427C-AFBD-0422E14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7504-B1E3-4120-8612-F76D01B5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8100-9890-4078-882E-CA2E23F1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72D-B7AE-44CC-8CF9-8786DE8D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5DE-6B26-4F02-AD32-D9A6ABE7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736-6FD7-4E23-A997-6F703638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D03-07AC-413D-854D-1A675EC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89A-5A6F-4504-889D-80E06E8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05F-10EC-4B0F-B151-AA73794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655-E9AE-4C42-9F17-D1E49542045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7209000" y="0"/>
            <a:ext cx="1935000" cy="14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209000" y="0"/>
            <a:ext cx="1935000" cy="145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5A0-77F7-4CF8-9A0F-E035D199952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209000" y="0"/>
            <a:ext cx="1935000" cy="145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hesea"/>
          <p:cNvPicPr/>
          <p:nvPr/>
        </p:nvPicPr>
        <p:blipFill>
          <a:blip r:embed="rId3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FAD-86E3-45A3-A135-A5364B2EF3F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357120" y="2428920"/>
            <a:ext cx="835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alibri"/>
              </a:rPr>
              <a:t>NEW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2"/>
          <p:cNvGrpSpPr/>
          <p:nvPr/>
        </p:nvGrpSpPr>
        <p:grpSpPr>
          <a:xfrm>
            <a:off x="152280" y="79200"/>
            <a:ext cx="7107480" cy="1414800"/>
            <a:chOff x="152280" y="79200"/>
            <a:chExt cx="7107480" cy="1414800"/>
          </a:xfrm>
        </p:grpSpPr>
        <p:pic>
          <p:nvPicPr>
            <p:cNvPr id="137" name="Rectangle 2" descr=""/>
            <p:cNvPicPr/>
            <p:nvPr/>
          </p:nvPicPr>
          <p:blipFill>
            <a:blip r:embed="rId1"/>
            <a:stretch/>
          </p:blipFill>
          <p:spPr>
            <a:xfrm>
              <a:off x="152280" y="79200"/>
              <a:ext cx="71074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85840" y="214200"/>
              <a:ext cx="6842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81d6e"/>
                  </a:solidFill>
                  <a:latin typeface="comic"/>
                </a:rPr>
                <a:t>BRITISH NEWSPAPERS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Содержимое 4" descr="110131-british-tabs-8a.photoblog600.jpg"/>
          <p:cNvPicPr/>
          <p:nvPr/>
        </p:nvPicPr>
        <p:blipFill>
          <a:blip r:embed="rId2"/>
          <a:stretch/>
        </p:blipFill>
        <p:spPr>
          <a:xfrm>
            <a:off x="214200" y="1571760"/>
            <a:ext cx="592956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0" name="Стрелка влево 7"/>
          <p:cNvSpPr/>
          <p:nvPr/>
        </p:nvSpPr>
        <p:spPr>
          <a:xfrm>
            <a:off x="6215040" y="1857240"/>
            <a:ext cx="2714760" cy="1428840"/>
          </a:xfrm>
          <a:prstGeom prst="leftArrow">
            <a:avLst>
              <a:gd name="adj1" fmla="val 67065"/>
              <a:gd name="adj2" fmla="val 49997"/>
            </a:avLst>
          </a:prstGeom>
          <a:solidFill>
            <a:srgbClr val="b8d98a"/>
          </a:solidFill>
          <a:ln w="25560">
            <a:solidFill>
              <a:srgbClr val="869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трелка влево 8"/>
          <p:cNvSpPr/>
          <p:nvPr/>
        </p:nvSpPr>
        <p:spPr>
          <a:xfrm>
            <a:off x="6286680" y="4214880"/>
            <a:ext cx="2714400" cy="1428840"/>
          </a:xfrm>
          <a:prstGeom prst="leftArrow">
            <a:avLst>
              <a:gd name="adj1" fmla="val 50000"/>
              <a:gd name="adj2" fmla="val 49991"/>
            </a:avLst>
          </a:prstGeom>
          <a:solidFill>
            <a:srgbClr val="b8d98a"/>
          </a:solidFill>
          <a:ln w="25560">
            <a:solidFill>
              <a:srgbClr val="869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Содержимое 5" descr="guardian01.jpg"/>
          <p:cNvPicPr/>
          <p:nvPr/>
        </p:nvPicPr>
        <p:blipFill>
          <a:blip r:embed="rId1"/>
          <a:stretch/>
        </p:blipFill>
        <p:spPr>
          <a:xfrm>
            <a:off x="5786280" y="1857240"/>
            <a:ext cx="29973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3" name="Рисунок 6" descr="the times.jpg"/>
          <p:cNvPicPr/>
          <p:nvPr/>
        </p:nvPicPr>
        <p:blipFill>
          <a:blip r:embed="rId2"/>
          <a:stretch/>
        </p:blipFill>
        <p:spPr>
          <a:xfrm>
            <a:off x="214200" y="1357200"/>
            <a:ext cx="4181760" cy="277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4" name="Рисунок 7" descr="the sun the times.jpg"/>
          <p:cNvPicPr/>
          <p:nvPr/>
        </p:nvPicPr>
        <p:blipFill>
          <a:blip r:embed="rId3"/>
          <a:stretch/>
        </p:blipFill>
        <p:spPr>
          <a:xfrm>
            <a:off x="857160" y="1857240"/>
            <a:ext cx="466740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5" name="Стрелка углом 11"/>
          <p:cNvSpPr/>
          <p:nvPr/>
        </p:nvSpPr>
        <p:spPr>
          <a:xfrm>
            <a:off x="2643120" y="4786200"/>
            <a:ext cx="3071880" cy="1643040"/>
          </a:xfrm>
          <a:prstGeom prst="pie">
            <a:avLst/>
          </a:prstGeom>
          <a:solidFill>
            <a:srgbClr val="b8d98a"/>
          </a:solidFill>
          <a:ln w="25560">
            <a:solidFill>
              <a:srgbClr val="869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трелка углом 12" descr=""/>
          <p:cNvPicPr/>
          <p:nvPr/>
        </p:nvPicPr>
        <p:blipFill>
          <a:blip r:embed="rId4"/>
          <a:stretch/>
        </p:blipFill>
        <p:spPr>
          <a:xfrm>
            <a:off x="122400" y="4627440"/>
            <a:ext cx="2541600" cy="1462320"/>
          </a:xfrm>
          <a:prstGeom prst="rect">
            <a:avLst/>
          </a:prstGeom>
          <a:ln w="0">
            <a:noFill/>
          </a:ln>
        </p:spPr>
      </p:pic>
      <p:grpSp>
        <p:nvGrpSpPr>
          <p:cNvPr id="147" name="Rectangle 2"/>
          <p:cNvGrpSpPr/>
          <p:nvPr/>
        </p:nvGrpSpPr>
        <p:grpSpPr>
          <a:xfrm>
            <a:off x="115920" y="139680"/>
            <a:ext cx="7113600" cy="1189080"/>
            <a:chOff x="115920" y="139680"/>
            <a:chExt cx="7113600" cy="1189080"/>
          </a:xfrm>
        </p:grpSpPr>
        <p:pic>
          <p:nvPicPr>
            <p:cNvPr id="148" name="Rectangle 2" descr=""/>
            <p:cNvPicPr/>
            <p:nvPr/>
          </p:nvPicPr>
          <p:blipFill>
            <a:blip r:embed="rId5"/>
            <a:stretch/>
          </p:blipFill>
          <p:spPr>
            <a:xfrm>
              <a:off x="115920" y="139680"/>
              <a:ext cx="711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274680"/>
              <a:ext cx="684216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81d6e"/>
                  </a:solidFill>
                  <a:latin typeface="comic"/>
                </a:rPr>
                <a:t>BRITISH NEWSPAPERS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5"/>
          <p:cNvSpPr/>
          <p:nvPr/>
        </p:nvSpPr>
        <p:spPr>
          <a:xfrm>
            <a:off x="2630520" y="3468600"/>
            <a:ext cx="900000" cy="744480"/>
          </a:xfrm>
          <a:custGeom>
            <a:avLst/>
            <a:gdLst>
              <a:gd name="textAreaLeft" fmla="*/ 0 w 900000"/>
              <a:gd name="textAreaRight" fmla="*/ 900360 w 9000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1100" h="744820">
                <a:moveTo>
                  <a:pt x="841248" y="428937"/>
                </a:moveTo>
                <a:lnTo>
                  <a:pt x="834598" y="502089"/>
                </a:lnTo>
                <a:lnTo>
                  <a:pt x="824622" y="551965"/>
                </a:lnTo>
                <a:lnTo>
                  <a:pt x="861198" y="488788"/>
                </a:lnTo>
                <a:lnTo>
                  <a:pt x="841248" y="428937"/>
                </a:lnTo>
                <a:close/>
                <a:moveTo>
                  <a:pt x="545315" y="322534"/>
                </a:moveTo>
                <a:lnTo>
                  <a:pt x="548640" y="389035"/>
                </a:lnTo>
                <a:lnTo>
                  <a:pt x="512064" y="432262"/>
                </a:lnTo>
                <a:lnTo>
                  <a:pt x="568590" y="458862"/>
                </a:lnTo>
                <a:lnTo>
                  <a:pt x="588541" y="422286"/>
                </a:lnTo>
                <a:lnTo>
                  <a:pt x="608492" y="392361"/>
                </a:lnTo>
                <a:lnTo>
                  <a:pt x="611817" y="335834"/>
                </a:lnTo>
                <a:lnTo>
                  <a:pt x="545315" y="322534"/>
                </a:lnTo>
                <a:close/>
                <a:moveTo>
                  <a:pt x="615142" y="0"/>
                </a:moveTo>
                <a:lnTo>
                  <a:pt x="668343" y="19950"/>
                </a:lnTo>
                <a:lnTo>
                  <a:pt x="714894" y="33251"/>
                </a:lnTo>
                <a:lnTo>
                  <a:pt x="708244" y="113053"/>
                </a:lnTo>
                <a:lnTo>
                  <a:pt x="758121" y="136329"/>
                </a:lnTo>
                <a:lnTo>
                  <a:pt x="748145" y="159604"/>
                </a:lnTo>
                <a:lnTo>
                  <a:pt x="804672" y="232756"/>
                </a:lnTo>
                <a:lnTo>
                  <a:pt x="824622" y="309233"/>
                </a:lnTo>
                <a:lnTo>
                  <a:pt x="761446" y="379060"/>
                </a:lnTo>
                <a:lnTo>
                  <a:pt x="874499" y="349134"/>
                </a:lnTo>
                <a:lnTo>
                  <a:pt x="901100" y="462187"/>
                </a:lnTo>
                <a:lnTo>
                  <a:pt x="894449" y="568590"/>
                </a:lnTo>
                <a:lnTo>
                  <a:pt x="841248" y="645067"/>
                </a:lnTo>
                <a:lnTo>
                  <a:pt x="814647" y="628442"/>
                </a:lnTo>
                <a:lnTo>
                  <a:pt x="764771" y="635092"/>
                </a:lnTo>
                <a:lnTo>
                  <a:pt x="724870" y="744820"/>
                </a:lnTo>
                <a:lnTo>
                  <a:pt x="645068" y="741495"/>
                </a:lnTo>
                <a:lnTo>
                  <a:pt x="631767" y="701594"/>
                </a:lnTo>
                <a:lnTo>
                  <a:pt x="498764" y="728195"/>
                </a:lnTo>
                <a:lnTo>
                  <a:pt x="512064" y="684969"/>
                </a:lnTo>
                <a:lnTo>
                  <a:pt x="472163" y="655043"/>
                </a:lnTo>
                <a:lnTo>
                  <a:pt x="428937" y="631767"/>
                </a:lnTo>
                <a:lnTo>
                  <a:pt x="428937" y="565265"/>
                </a:lnTo>
                <a:lnTo>
                  <a:pt x="385710" y="508739"/>
                </a:lnTo>
                <a:lnTo>
                  <a:pt x="305908" y="548640"/>
                </a:lnTo>
                <a:lnTo>
                  <a:pt x="329184" y="598516"/>
                </a:lnTo>
                <a:lnTo>
                  <a:pt x="302583" y="645067"/>
                </a:lnTo>
                <a:lnTo>
                  <a:pt x="262682" y="698269"/>
                </a:lnTo>
                <a:lnTo>
                  <a:pt x="239406" y="681643"/>
                </a:lnTo>
                <a:lnTo>
                  <a:pt x="182880" y="681643"/>
                </a:lnTo>
                <a:lnTo>
                  <a:pt x="152954" y="638417"/>
                </a:lnTo>
                <a:lnTo>
                  <a:pt x="103078" y="645067"/>
                </a:lnTo>
                <a:lnTo>
                  <a:pt x="96428" y="591866"/>
                </a:lnTo>
                <a:lnTo>
                  <a:pt x="0" y="478813"/>
                </a:lnTo>
                <a:lnTo>
                  <a:pt x="53201" y="418961"/>
                </a:lnTo>
                <a:lnTo>
                  <a:pt x="106403" y="425611"/>
                </a:lnTo>
                <a:lnTo>
                  <a:pt x="162929" y="379060"/>
                </a:lnTo>
                <a:lnTo>
                  <a:pt x="96428" y="309233"/>
                </a:lnTo>
                <a:lnTo>
                  <a:pt x="202830" y="289283"/>
                </a:lnTo>
                <a:lnTo>
                  <a:pt x="259357" y="152954"/>
                </a:lnTo>
                <a:lnTo>
                  <a:pt x="325859" y="103078"/>
                </a:lnTo>
                <a:lnTo>
                  <a:pt x="379060" y="96427"/>
                </a:lnTo>
                <a:lnTo>
                  <a:pt x="428937" y="39901"/>
                </a:lnTo>
                <a:lnTo>
                  <a:pt x="522039" y="19950"/>
                </a:lnTo>
                <a:lnTo>
                  <a:pt x="615142" y="0"/>
                </a:lnTo>
                <a:close/>
              </a:path>
            </a:pathLst>
          </a:custGeom>
          <a:solidFill>
            <a:srgbClr val="00a0c6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6094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 latest news from </a:t>
            </a:r>
            <a:br>
              <a:rPr sz="2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745080" y="4002120"/>
            <a:ext cx="155520" cy="225360"/>
          </a:xfrm>
          <a:custGeom>
            <a:avLst/>
            <a:gdLst>
              <a:gd name="textAreaLeft" fmla="*/ 0 w 155520"/>
              <a:gd name="textAreaRight" fmla="*/ 155880 w 155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56456" h="225992">
                <a:moveTo>
                  <a:pt x="156456" y="0"/>
                </a:moveTo>
                <a:lnTo>
                  <a:pt x="156456" y="104304"/>
                </a:lnTo>
                <a:lnTo>
                  <a:pt x="45199" y="215562"/>
                </a:lnTo>
                <a:lnTo>
                  <a:pt x="0" y="225992"/>
                </a:lnTo>
                <a:lnTo>
                  <a:pt x="6954" y="180794"/>
                </a:lnTo>
                <a:lnTo>
                  <a:pt x="52152" y="93874"/>
                </a:lnTo>
                <a:lnTo>
                  <a:pt x="55629" y="48675"/>
                </a:lnTo>
                <a:lnTo>
                  <a:pt x="156456" y="0"/>
                </a:lnTo>
                <a:close/>
              </a:path>
            </a:pathLst>
          </a:custGeom>
          <a:solidFill>
            <a:srgbClr val="00a0c6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2971800" y="1676520"/>
            <a:ext cx="3048120" cy="46479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7960"/>
              <a:gd name="textAreaBottom" fmla="*/ 4648320 h 46479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00a0c6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2971800" y="1676520"/>
            <a:ext cx="3048120" cy="464796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7960"/>
              <a:gd name="textAreaBottom" fmla="*/ 4648320 h 464796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6" descr="red"/>
          <p:cNvPicPr/>
          <p:nvPr/>
        </p:nvPicPr>
        <p:blipFill>
          <a:blip r:embed="rId1"/>
          <a:stretch/>
        </p:blipFill>
        <p:spPr>
          <a:xfrm>
            <a:off x="3378240" y="484020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green"/>
          <p:cNvPicPr/>
          <p:nvPr/>
        </p:nvPicPr>
        <p:blipFill>
          <a:blip r:embed="rId2"/>
          <a:stretch/>
        </p:blipFill>
        <p:spPr>
          <a:xfrm>
            <a:off x="4724280" y="5105520"/>
            <a:ext cx="889200" cy="72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purple"/>
          <p:cNvPicPr/>
          <p:nvPr/>
        </p:nvPicPr>
        <p:blipFill>
          <a:blip r:embed="rId3"/>
          <a:stretch/>
        </p:blipFill>
        <p:spPr>
          <a:xfrm>
            <a:off x="3987720" y="2630520"/>
            <a:ext cx="889200" cy="722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4929120" y="2143080"/>
            <a:ext cx="2486160" cy="5763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NBUR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692360" y="5013360"/>
            <a:ext cx="2041560" cy="452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DI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6072120" y="5572080"/>
            <a:ext cx="1932120" cy="5000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3"/>
          <p:cNvSpPr/>
          <p:nvPr/>
        </p:nvSpPr>
        <p:spPr>
          <a:xfrm>
            <a:off x="2630520" y="3468600"/>
            <a:ext cx="900000" cy="744480"/>
          </a:xfrm>
          <a:custGeom>
            <a:avLst/>
            <a:gdLst>
              <a:gd name="textAreaLeft" fmla="*/ 0 w 900000"/>
              <a:gd name="textAreaRight" fmla="*/ 900360 w 9000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1100" h="744820">
                <a:moveTo>
                  <a:pt x="841248" y="428937"/>
                </a:moveTo>
                <a:lnTo>
                  <a:pt x="834598" y="502089"/>
                </a:lnTo>
                <a:lnTo>
                  <a:pt x="824622" y="551965"/>
                </a:lnTo>
                <a:lnTo>
                  <a:pt x="861198" y="488788"/>
                </a:lnTo>
                <a:lnTo>
                  <a:pt x="841248" y="428937"/>
                </a:lnTo>
                <a:close/>
                <a:moveTo>
                  <a:pt x="545315" y="322534"/>
                </a:moveTo>
                <a:lnTo>
                  <a:pt x="548640" y="389035"/>
                </a:lnTo>
                <a:lnTo>
                  <a:pt x="512064" y="432262"/>
                </a:lnTo>
                <a:lnTo>
                  <a:pt x="568590" y="458862"/>
                </a:lnTo>
                <a:lnTo>
                  <a:pt x="588541" y="422286"/>
                </a:lnTo>
                <a:lnTo>
                  <a:pt x="608492" y="392361"/>
                </a:lnTo>
                <a:lnTo>
                  <a:pt x="611817" y="335834"/>
                </a:lnTo>
                <a:lnTo>
                  <a:pt x="545315" y="322534"/>
                </a:lnTo>
                <a:close/>
                <a:moveTo>
                  <a:pt x="615142" y="0"/>
                </a:moveTo>
                <a:lnTo>
                  <a:pt x="668343" y="19950"/>
                </a:lnTo>
                <a:lnTo>
                  <a:pt x="714894" y="33251"/>
                </a:lnTo>
                <a:lnTo>
                  <a:pt x="708244" y="113053"/>
                </a:lnTo>
                <a:lnTo>
                  <a:pt x="758121" y="136329"/>
                </a:lnTo>
                <a:lnTo>
                  <a:pt x="748145" y="159604"/>
                </a:lnTo>
                <a:lnTo>
                  <a:pt x="804672" y="232756"/>
                </a:lnTo>
                <a:lnTo>
                  <a:pt x="824622" y="309233"/>
                </a:lnTo>
                <a:lnTo>
                  <a:pt x="761446" y="379060"/>
                </a:lnTo>
                <a:lnTo>
                  <a:pt x="874499" y="349134"/>
                </a:lnTo>
                <a:lnTo>
                  <a:pt x="901100" y="462187"/>
                </a:lnTo>
                <a:lnTo>
                  <a:pt x="894449" y="568590"/>
                </a:lnTo>
                <a:lnTo>
                  <a:pt x="841248" y="645067"/>
                </a:lnTo>
                <a:lnTo>
                  <a:pt x="814647" y="628442"/>
                </a:lnTo>
                <a:lnTo>
                  <a:pt x="764771" y="635092"/>
                </a:lnTo>
                <a:lnTo>
                  <a:pt x="724870" y="744820"/>
                </a:lnTo>
                <a:lnTo>
                  <a:pt x="645068" y="741495"/>
                </a:lnTo>
                <a:lnTo>
                  <a:pt x="631767" y="701594"/>
                </a:lnTo>
                <a:lnTo>
                  <a:pt x="498764" y="728195"/>
                </a:lnTo>
                <a:lnTo>
                  <a:pt x="512064" y="684969"/>
                </a:lnTo>
                <a:lnTo>
                  <a:pt x="472163" y="655043"/>
                </a:lnTo>
                <a:lnTo>
                  <a:pt x="428937" y="631767"/>
                </a:lnTo>
                <a:lnTo>
                  <a:pt x="428937" y="565265"/>
                </a:lnTo>
                <a:lnTo>
                  <a:pt x="385710" y="508739"/>
                </a:lnTo>
                <a:lnTo>
                  <a:pt x="305908" y="548640"/>
                </a:lnTo>
                <a:lnTo>
                  <a:pt x="329184" y="598516"/>
                </a:lnTo>
                <a:lnTo>
                  <a:pt x="302583" y="645067"/>
                </a:lnTo>
                <a:lnTo>
                  <a:pt x="262682" y="698269"/>
                </a:lnTo>
                <a:lnTo>
                  <a:pt x="239406" y="681643"/>
                </a:lnTo>
                <a:lnTo>
                  <a:pt x="182880" y="681643"/>
                </a:lnTo>
                <a:lnTo>
                  <a:pt x="152954" y="638417"/>
                </a:lnTo>
                <a:lnTo>
                  <a:pt x="103078" y="645067"/>
                </a:lnTo>
                <a:lnTo>
                  <a:pt x="96428" y="591866"/>
                </a:lnTo>
                <a:lnTo>
                  <a:pt x="0" y="478813"/>
                </a:lnTo>
                <a:lnTo>
                  <a:pt x="53201" y="418961"/>
                </a:lnTo>
                <a:lnTo>
                  <a:pt x="106403" y="425611"/>
                </a:lnTo>
                <a:lnTo>
                  <a:pt x="162929" y="379060"/>
                </a:lnTo>
                <a:lnTo>
                  <a:pt x="96428" y="309233"/>
                </a:lnTo>
                <a:lnTo>
                  <a:pt x="202830" y="289283"/>
                </a:lnTo>
                <a:lnTo>
                  <a:pt x="259357" y="152954"/>
                </a:lnTo>
                <a:lnTo>
                  <a:pt x="325859" y="103078"/>
                </a:lnTo>
                <a:lnTo>
                  <a:pt x="379060" y="96427"/>
                </a:lnTo>
                <a:lnTo>
                  <a:pt x="428937" y="39901"/>
                </a:lnTo>
                <a:lnTo>
                  <a:pt x="522039" y="19950"/>
                </a:lnTo>
                <a:lnTo>
                  <a:pt x="615142" y="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4"/>
          <p:cNvSpPr/>
          <p:nvPr/>
        </p:nvSpPr>
        <p:spPr>
          <a:xfrm>
            <a:off x="3745080" y="3997440"/>
            <a:ext cx="155520" cy="226800"/>
          </a:xfrm>
          <a:custGeom>
            <a:avLst/>
            <a:gdLst>
              <a:gd name="textAreaLeft" fmla="*/ 0 w 155520"/>
              <a:gd name="textAreaRight" fmla="*/ 155880 w 1555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56456" h="225992">
                <a:moveTo>
                  <a:pt x="156456" y="0"/>
                </a:moveTo>
                <a:lnTo>
                  <a:pt x="156456" y="104304"/>
                </a:lnTo>
                <a:lnTo>
                  <a:pt x="45199" y="215562"/>
                </a:lnTo>
                <a:lnTo>
                  <a:pt x="0" y="225992"/>
                </a:lnTo>
                <a:lnTo>
                  <a:pt x="6954" y="180794"/>
                </a:lnTo>
                <a:lnTo>
                  <a:pt x="52152" y="93874"/>
                </a:lnTo>
                <a:lnTo>
                  <a:pt x="55629" y="48675"/>
                </a:lnTo>
                <a:lnTo>
                  <a:pt x="156456" y="0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29" descr="white"/>
          <p:cNvPicPr/>
          <p:nvPr/>
        </p:nvPicPr>
        <p:blipFill>
          <a:blip r:embed="rId4"/>
          <a:stretch/>
        </p:blipFill>
        <p:spPr>
          <a:xfrm>
            <a:off x="2616120" y="3110040"/>
            <a:ext cx="900360" cy="730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3"/>
          <p:cNvSpPr/>
          <p:nvPr/>
        </p:nvSpPr>
        <p:spPr>
          <a:xfrm>
            <a:off x="992160" y="3141720"/>
            <a:ext cx="2043000" cy="452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ьная выноска 16"/>
          <p:cNvSpPr/>
          <p:nvPr/>
        </p:nvSpPr>
        <p:spPr>
          <a:xfrm>
            <a:off x="6143760" y="2714760"/>
            <a:ext cx="2786040" cy="2357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d98a"/>
          </a:solidFill>
          <a:ln w="25560">
            <a:solidFill>
              <a:srgbClr val="869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132b"/>
                </a:solidFill>
                <a:latin typeface="Calibri"/>
              </a:rPr>
              <a:t>59 million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Заголовок 1"/>
          <p:cNvGrpSpPr/>
          <p:nvPr/>
        </p:nvGrpSpPr>
        <p:grpSpPr>
          <a:xfrm>
            <a:off x="1268280" y="201600"/>
            <a:ext cx="7162920" cy="1236600"/>
            <a:chOff x="1268280" y="201600"/>
            <a:chExt cx="7162920" cy="1236600"/>
          </a:xfrm>
        </p:grpSpPr>
        <p:pic>
          <p:nvPicPr>
            <p:cNvPr id="16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268280" y="201600"/>
              <a:ext cx="71629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428840" y="357120"/>
              <a:ext cx="684216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0862c"/>
                  </a:solidFill>
                  <a:latin typeface="Arial"/>
                </a:rPr>
                <a:t>Let’s check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Прямоугольник 3"/>
          <p:cNvSpPr/>
          <p:nvPr/>
        </p:nvSpPr>
        <p:spPr>
          <a:xfrm>
            <a:off x="500040" y="2143080"/>
            <a:ext cx="8358120" cy="3106800"/>
          </a:xfrm>
          <a:prstGeom prst="rect">
            <a:avLst/>
          </a:prstGeom>
          <a:gradFill rotWithShape="0">
            <a:gsLst>
              <a:gs pos="0">
                <a:srgbClr val="e1ffb2"/>
              </a:gs>
              <a:gs pos="100000">
                <a:srgbClr val="f6ffe8"/>
              </a:gs>
            </a:gsLst>
            <a:lin ang="16200000"/>
          </a:gradFill>
          <a:ln w="9360">
            <a:solidFill>
              <a:srgbClr val="b4d68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news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 Tablo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3.5 million people buy Th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2.25 million buy Th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Daily Mi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oid papers have more gossip, human interest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tor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, and pic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have less seriou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new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500040" y="1357200"/>
            <a:ext cx="8286840" cy="476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b8d9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 Broadshe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called quality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pap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llion people buy Th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Daily Telegrap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700 000 buy The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Tim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7). Other broadsheets: The Independent and The Guard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sheets have more serious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ne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) and fewer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pict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 Facts about British newspap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1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0) daily and Sunday papers in Brit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more than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6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11) magazines in Brit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Заголовок 1"/>
          <p:cNvGrpSpPr/>
          <p:nvPr/>
        </p:nvGrpSpPr>
        <p:grpSpPr>
          <a:xfrm>
            <a:off x="1127160" y="55440"/>
            <a:ext cx="7157880" cy="1236960"/>
            <a:chOff x="1127160" y="55440"/>
            <a:chExt cx="7157880" cy="1236960"/>
          </a:xfrm>
        </p:grpSpPr>
        <p:pic>
          <p:nvPicPr>
            <p:cNvPr id="17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27160" y="55440"/>
              <a:ext cx="715788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285920" y="214200"/>
              <a:ext cx="684216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60862c"/>
                  </a:solidFill>
                  <a:latin typeface="Arial"/>
                </a:rPr>
                <a:t>Let’s check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15"/>
          <p:cNvSpPr/>
          <p:nvPr/>
        </p:nvSpPr>
        <p:spPr>
          <a:xfrm>
            <a:off x="2630520" y="3468600"/>
            <a:ext cx="900000" cy="744480"/>
          </a:xfrm>
          <a:custGeom>
            <a:avLst/>
            <a:gdLst/>
            <a:ahLst/>
            <a:rect l="l" t="t" r="r" b="b"/>
            <a:pathLst>
              <a:path w="901100" h="744820">
                <a:moveTo>
                  <a:pt x="841248" y="428937"/>
                </a:moveTo>
                <a:lnTo>
                  <a:pt x="834598" y="502089"/>
                </a:lnTo>
                <a:lnTo>
                  <a:pt x="824622" y="551965"/>
                </a:lnTo>
                <a:lnTo>
                  <a:pt x="861198" y="488788"/>
                </a:lnTo>
                <a:lnTo>
                  <a:pt x="841248" y="428937"/>
                </a:lnTo>
                <a:close/>
                <a:moveTo>
                  <a:pt x="545315" y="322534"/>
                </a:moveTo>
                <a:lnTo>
                  <a:pt x="548640" y="389035"/>
                </a:lnTo>
                <a:lnTo>
                  <a:pt x="512064" y="432262"/>
                </a:lnTo>
                <a:lnTo>
                  <a:pt x="568590" y="458862"/>
                </a:lnTo>
                <a:lnTo>
                  <a:pt x="588541" y="422286"/>
                </a:lnTo>
                <a:lnTo>
                  <a:pt x="608492" y="392361"/>
                </a:lnTo>
                <a:lnTo>
                  <a:pt x="611817" y="335834"/>
                </a:lnTo>
                <a:lnTo>
                  <a:pt x="545315" y="322534"/>
                </a:lnTo>
                <a:close/>
                <a:moveTo>
                  <a:pt x="615142" y="0"/>
                </a:moveTo>
                <a:lnTo>
                  <a:pt x="668343" y="19950"/>
                </a:lnTo>
                <a:lnTo>
                  <a:pt x="714894" y="33251"/>
                </a:lnTo>
                <a:lnTo>
                  <a:pt x="708244" y="113053"/>
                </a:lnTo>
                <a:lnTo>
                  <a:pt x="758121" y="136329"/>
                </a:lnTo>
                <a:lnTo>
                  <a:pt x="748145" y="159604"/>
                </a:lnTo>
                <a:lnTo>
                  <a:pt x="804672" y="232756"/>
                </a:lnTo>
                <a:lnTo>
                  <a:pt x="824622" y="309233"/>
                </a:lnTo>
                <a:lnTo>
                  <a:pt x="761446" y="379060"/>
                </a:lnTo>
                <a:lnTo>
                  <a:pt x="874499" y="349134"/>
                </a:lnTo>
                <a:lnTo>
                  <a:pt x="901100" y="462187"/>
                </a:lnTo>
                <a:lnTo>
                  <a:pt x="894449" y="568590"/>
                </a:lnTo>
                <a:lnTo>
                  <a:pt x="841248" y="645067"/>
                </a:lnTo>
                <a:lnTo>
                  <a:pt x="814647" y="628442"/>
                </a:lnTo>
                <a:lnTo>
                  <a:pt x="764771" y="635092"/>
                </a:lnTo>
                <a:lnTo>
                  <a:pt x="724870" y="744820"/>
                </a:lnTo>
                <a:lnTo>
                  <a:pt x="645068" y="741495"/>
                </a:lnTo>
                <a:lnTo>
                  <a:pt x="631767" y="701594"/>
                </a:lnTo>
                <a:lnTo>
                  <a:pt x="498764" y="728195"/>
                </a:lnTo>
                <a:lnTo>
                  <a:pt x="512064" y="684969"/>
                </a:lnTo>
                <a:lnTo>
                  <a:pt x="472163" y="655043"/>
                </a:lnTo>
                <a:lnTo>
                  <a:pt x="428937" y="631767"/>
                </a:lnTo>
                <a:lnTo>
                  <a:pt x="428937" y="565265"/>
                </a:lnTo>
                <a:lnTo>
                  <a:pt x="385710" y="508739"/>
                </a:lnTo>
                <a:lnTo>
                  <a:pt x="305908" y="548640"/>
                </a:lnTo>
                <a:lnTo>
                  <a:pt x="329184" y="598516"/>
                </a:lnTo>
                <a:lnTo>
                  <a:pt x="302583" y="645067"/>
                </a:lnTo>
                <a:lnTo>
                  <a:pt x="262682" y="698269"/>
                </a:lnTo>
                <a:lnTo>
                  <a:pt x="239406" y="681643"/>
                </a:lnTo>
                <a:lnTo>
                  <a:pt x="182880" y="681643"/>
                </a:lnTo>
                <a:lnTo>
                  <a:pt x="152954" y="638417"/>
                </a:lnTo>
                <a:lnTo>
                  <a:pt x="103078" y="645067"/>
                </a:lnTo>
                <a:lnTo>
                  <a:pt x="96428" y="591866"/>
                </a:lnTo>
                <a:lnTo>
                  <a:pt x="0" y="478813"/>
                </a:lnTo>
                <a:lnTo>
                  <a:pt x="53201" y="418961"/>
                </a:lnTo>
                <a:lnTo>
                  <a:pt x="101640" y="413705"/>
                </a:lnTo>
                <a:lnTo>
                  <a:pt x="162929" y="379060"/>
                </a:lnTo>
                <a:lnTo>
                  <a:pt x="96428" y="309233"/>
                </a:lnTo>
                <a:lnTo>
                  <a:pt x="202830" y="289283"/>
                </a:lnTo>
                <a:lnTo>
                  <a:pt x="259357" y="152954"/>
                </a:lnTo>
                <a:lnTo>
                  <a:pt x="325859" y="103078"/>
                </a:lnTo>
                <a:lnTo>
                  <a:pt x="379060" y="96427"/>
                </a:lnTo>
                <a:lnTo>
                  <a:pt x="428937" y="39901"/>
                </a:lnTo>
                <a:lnTo>
                  <a:pt x="522039" y="19950"/>
                </a:lnTo>
                <a:lnTo>
                  <a:pt x="61514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094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ur Countries of</a:t>
            </a:r>
            <a:br>
              <a:rPr sz="2000"/>
            </a:b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8"/>
          <p:cNvSpPr/>
          <p:nvPr/>
        </p:nvSpPr>
        <p:spPr>
          <a:xfrm>
            <a:off x="3475080" y="4599000"/>
            <a:ext cx="957240" cy="1289160"/>
          </a:xfrm>
          <a:custGeom>
            <a:avLst/>
            <a:gdLst/>
            <a:ahLst/>
            <a:rect l="l" t="t" r="r" b="b"/>
            <a:pathLst>
              <a:path w="957626" h="1290135">
                <a:moveTo>
                  <a:pt x="927700" y="282632"/>
                </a:moveTo>
                <a:lnTo>
                  <a:pt x="854548" y="182880"/>
                </a:lnTo>
                <a:lnTo>
                  <a:pt x="881149" y="149629"/>
                </a:lnTo>
                <a:lnTo>
                  <a:pt x="837923" y="113053"/>
                </a:lnTo>
                <a:lnTo>
                  <a:pt x="771421" y="116378"/>
                </a:lnTo>
                <a:lnTo>
                  <a:pt x="751471" y="89777"/>
                </a:lnTo>
                <a:lnTo>
                  <a:pt x="764771" y="59851"/>
                </a:lnTo>
                <a:lnTo>
                  <a:pt x="694944" y="59851"/>
                </a:lnTo>
                <a:lnTo>
                  <a:pt x="691619" y="106403"/>
                </a:lnTo>
                <a:lnTo>
                  <a:pt x="625117" y="99752"/>
                </a:lnTo>
                <a:lnTo>
                  <a:pt x="591866" y="73152"/>
                </a:lnTo>
                <a:lnTo>
                  <a:pt x="535340" y="69827"/>
                </a:lnTo>
                <a:lnTo>
                  <a:pt x="545315" y="96427"/>
                </a:lnTo>
                <a:lnTo>
                  <a:pt x="472163" y="126353"/>
                </a:lnTo>
                <a:lnTo>
                  <a:pt x="485463" y="86452"/>
                </a:lnTo>
                <a:lnTo>
                  <a:pt x="485463" y="63176"/>
                </a:lnTo>
                <a:lnTo>
                  <a:pt x="435587" y="83127"/>
                </a:lnTo>
                <a:lnTo>
                  <a:pt x="435587" y="29926"/>
                </a:lnTo>
                <a:lnTo>
                  <a:pt x="365760" y="0"/>
                </a:lnTo>
                <a:lnTo>
                  <a:pt x="319209" y="9975"/>
                </a:lnTo>
                <a:lnTo>
                  <a:pt x="305908" y="63176"/>
                </a:lnTo>
                <a:lnTo>
                  <a:pt x="249382" y="69827"/>
                </a:lnTo>
                <a:lnTo>
                  <a:pt x="285958" y="116378"/>
                </a:lnTo>
                <a:lnTo>
                  <a:pt x="375735" y="209480"/>
                </a:lnTo>
                <a:lnTo>
                  <a:pt x="349135" y="262682"/>
                </a:lnTo>
                <a:lnTo>
                  <a:pt x="229431" y="355784"/>
                </a:lnTo>
                <a:lnTo>
                  <a:pt x="229431" y="412311"/>
                </a:lnTo>
                <a:lnTo>
                  <a:pt x="272657" y="428936"/>
                </a:lnTo>
                <a:lnTo>
                  <a:pt x="295933" y="375735"/>
                </a:lnTo>
                <a:lnTo>
                  <a:pt x="305908" y="415636"/>
                </a:lnTo>
                <a:lnTo>
                  <a:pt x="349135" y="422286"/>
                </a:lnTo>
                <a:lnTo>
                  <a:pt x="352460" y="359110"/>
                </a:lnTo>
                <a:lnTo>
                  <a:pt x="418961" y="319208"/>
                </a:lnTo>
                <a:lnTo>
                  <a:pt x="452212" y="369085"/>
                </a:lnTo>
                <a:lnTo>
                  <a:pt x="445562" y="412311"/>
                </a:lnTo>
                <a:lnTo>
                  <a:pt x="468838" y="462187"/>
                </a:lnTo>
                <a:lnTo>
                  <a:pt x="455537" y="505414"/>
                </a:lnTo>
                <a:lnTo>
                  <a:pt x="485463" y="575240"/>
                </a:lnTo>
                <a:lnTo>
                  <a:pt x="455537" y="671668"/>
                </a:lnTo>
                <a:lnTo>
                  <a:pt x="405661" y="738170"/>
                </a:lnTo>
                <a:lnTo>
                  <a:pt x="342484" y="751470"/>
                </a:lnTo>
                <a:lnTo>
                  <a:pt x="295933" y="794696"/>
                </a:lnTo>
                <a:lnTo>
                  <a:pt x="262682" y="778071"/>
                </a:lnTo>
                <a:lnTo>
                  <a:pt x="176230" y="837923"/>
                </a:lnTo>
                <a:lnTo>
                  <a:pt x="179555" y="854548"/>
                </a:lnTo>
                <a:lnTo>
                  <a:pt x="99753" y="854548"/>
                </a:lnTo>
                <a:lnTo>
                  <a:pt x="39901" y="907750"/>
                </a:lnTo>
                <a:lnTo>
                  <a:pt x="0" y="917725"/>
                </a:lnTo>
                <a:lnTo>
                  <a:pt x="13300" y="964276"/>
                </a:lnTo>
                <a:lnTo>
                  <a:pt x="63177" y="974251"/>
                </a:lnTo>
                <a:lnTo>
                  <a:pt x="83127" y="990877"/>
                </a:lnTo>
                <a:lnTo>
                  <a:pt x="53201" y="1034103"/>
                </a:lnTo>
                <a:lnTo>
                  <a:pt x="49876" y="1064029"/>
                </a:lnTo>
                <a:lnTo>
                  <a:pt x="109728" y="1083979"/>
                </a:lnTo>
                <a:lnTo>
                  <a:pt x="126353" y="1133856"/>
                </a:lnTo>
                <a:lnTo>
                  <a:pt x="189530" y="1107255"/>
                </a:lnTo>
                <a:lnTo>
                  <a:pt x="262682" y="1087304"/>
                </a:lnTo>
                <a:lnTo>
                  <a:pt x="246057" y="1047403"/>
                </a:lnTo>
                <a:lnTo>
                  <a:pt x="299258" y="1044078"/>
                </a:lnTo>
                <a:lnTo>
                  <a:pt x="332509" y="1054054"/>
                </a:lnTo>
                <a:lnTo>
                  <a:pt x="352460" y="1087304"/>
                </a:lnTo>
                <a:lnTo>
                  <a:pt x="422287" y="1097280"/>
                </a:lnTo>
                <a:lnTo>
                  <a:pt x="372410" y="1120555"/>
                </a:lnTo>
                <a:lnTo>
                  <a:pt x="365760" y="1180407"/>
                </a:lnTo>
                <a:lnTo>
                  <a:pt x="432262" y="1167107"/>
                </a:lnTo>
                <a:lnTo>
                  <a:pt x="538665" y="1117230"/>
                </a:lnTo>
                <a:lnTo>
                  <a:pt x="535340" y="1173757"/>
                </a:lnTo>
                <a:lnTo>
                  <a:pt x="558615" y="1173757"/>
                </a:lnTo>
                <a:lnTo>
                  <a:pt x="558615" y="1216983"/>
                </a:lnTo>
                <a:lnTo>
                  <a:pt x="621792" y="1250234"/>
                </a:lnTo>
                <a:lnTo>
                  <a:pt x="688294" y="1290135"/>
                </a:lnTo>
                <a:lnTo>
                  <a:pt x="774746" y="1266859"/>
                </a:lnTo>
                <a:lnTo>
                  <a:pt x="814647" y="1210333"/>
                </a:lnTo>
                <a:lnTo>
                  <a:pt x="877824" y="1190382"/>
                </a:lnTo>
                <a:lnTo>
                  <a:pt x="911075" y="1200358"/>
                </a:lnTo>
                <a:lnTo>
                  <a:pt x="957626" y="1143831"/>
                </a:lnTo>
                <a:lnTo>
                  <a:pt x="957626" y="1097280"/>
                </a:lnTo>
                <a:lnTo>
                  <a:pt x="957626" y="1000852"/>
                </a:lnTo>
                <a:lnTo>
                  <a:pt x="871174" y="934350"/>
                </a:lnTo>
                <a:lnTo>
                  <a:pt x="837923" y="947651"/>
                </a:lnTo>
                <a:lnTo>
                  <a:pt x="798022" y="874499"/>
                </a:lnTo>
                <a:lnTo>
                  <a:pt x="798022" y="804672"/>
                </a:lnTo>
                <a:lnTo>
                  <a:pt x="814647" y="744820"/>
                </a:lnTo>
                <a:lnTo>
                  <a:pt x="824623" y="718219"/>
                </a:lnTo>
                <a:lnTo>
                  <a:pt x="831273" y="674993"/>
                </a:lnTo>
                <a:lnTo>
                  <a:pt x="794697" y="665018"/>
                </a:lnTo>
                <a:lnTo>
                  <a:pt x="754796" y="625117"/>
                </a:lnTo>
                <a:lnTo>
                  <a:pt x="768096" y="591866"/>
                </a:lnTo>
                <a:lnTo>
                  <a:pt x="814647" y="585216"/>
                </a:lnTo>
                <a:lnTo>
                  <a:pt x="844573" y="555290"/>
                </a:lnTo>
                <a:lnTo>
                  <a:pt x="807997" y="528689"/>
                </a:lnTo>
                <a:lnTo>
                  <a:pt x="844573" y="438912"/>
                </a:lnTo>
                <a:lnTo>
                  <a:pt x="854548" y="428936"/>
                </a:lnTo>
                <a:lnTo>
                  <a:pt x="814647" y="399011"/>
                </a:lnTo>
                <a:lnTo>
                  <a:pt x="791372" y="385710"/>
                </a:lnTo>
                <a:lnTo>
                  <a:pt x="811322" y="302583"/>
                </a:lnTo>
                <a:lnTo>
                  <a:pt x="877824" y="305908"/>
                </a:lnTo>
                <a:lnTo>
                  <a:pt x="927700" y="282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3298680" y="3081240"/>
            <a:ext cx="2702160" cy="3635640"/>
          </a:xfrm>
          <a:custGeom>
            <a:avLst/>
            <a:gdLst/>
            <a:ahLst/>
            <a:rect l="l" t="t" r="r" b="b"/>
            <a:pathLst>
              <a:path w="2701062" h="3635497">
                <a:moveTo>
                  <a:pt x="1365464" y="33227"/>
                </a:moveTo>
                <a:lnTo>
                  <a:pt x="1253525" y="0"/>
                </a:lnTo>
                <a:lnTo>
                  <a:pt x="1335782" y="91671"/>
                </a:lnTo>
                <a:lnTo>
                  <a:pt x="1264148" y="180161"/>
                </a:lnTo>
                <a:lnTo>
                  <a:pt x="1281002" y="319218"/>
                </a:lnTo>
                <a:lnTo>
                  <a:pt x="1141946" y="454060"/>
                </a:lnTo>
                <a:lnTo>
                  <a:pt x="876475" y="711102"/>
                </a:lnTo>
                <a:lnTo>
                  <a:pt x="804840" y="782737"/>
                </a:lnTo>
                <a:lnTo>
                  <a:pt x="813268" y="913366"/>
                </a:lnTo>
                <a:lnTo>
                  <a:pt x="897545" y="1081919"/>
                </a:lnTo>
                <a:lnTo>
                  <a:pt x="943897" y="1166195"/>
                </a:lnTo>
                <a:lnTo>
                  <a:pt x="964966" y="1195692"/>
                </a:lnTo>
                <a:lnTo>
                  <a:pt x="994463" y="1170409"/>
                </a:lnTo>
                <a:lnTo>
                  <a:pt x="1011318" y="1115630"/>
                </a:lnTo>
                <a:lnTo>
                  <a:pt x="1057670" y="1107202"/>
                </a:lnTo>
                <a:lnTo>
                  <a:pt x="1053456" y="1170409"/>
                </a:lnTo>
                <a:lnTo>
                  <a:pt x="1040815" y="1204120"/>
                </a:lnTo>
                <a:lnTo>
                  <a:pt x="1049242" y="1229403"/>
                </a:lnTo>
                <a:lnTo>
                  <a:pt x="986035" y="1246258"/>
                </a:lnTo>
                <a:lnTo>
                  <a:pt x="1011318" y="1381101"/>
                </a:lnTo>
                <a:lnTo>
                  <a:pt x="1049242" y="1376887"/>
                </a:lnTo>
                <a:lnTo>
                  <a:pt x="1040815" y="1440094"/>
                </a:lnTo>
                <a:lnTo>
                  <a:pt x="981821" y="1473805"/>
                </a:lnTo>
                <a:lnTo>
                  <a:pt x="931255" y="1473805"/>
                </a:lnTo>
                <a:lnTo>
                  <a:pt x="897545" y="1537012"/>
                </a:lnTo>
                <a:lnTo>
                  <a:pt x="901758" y="1566509"/>
                </a:lnTo>
                <a:lnTo>
                  <a:pt x="948110" y="1574936"/>
                </a:lnTo>
                <a:lnTo>
                  <a:pt x="931255" y="1612861"/>
                </a:lnTo>
                <a:lnTo>
                  <a:pt x="952324" y="1621289"/>
                </a:lnTo>
                <a:lnTo>
                  <a:pt x="1015532" y="1625502"/>
                </a:lnTo>
                <a:lnTo>
                  <a:pt x="1040815" y="1663427"/>
                </a:lnTo>
                <a:lnTo>
                  <a:pt x="1036601" y="1701351"/>
                </a:lnTo>
                <a:lnTo>
                  <a:pt x="1104022" y="1802483"/>
                </a:lnTo>
                <a:lnTo>
                  <a:pt x="1053456" y="1827766"/>
                </a:lnTo>
                <a:lnTo>
                  <a:pt x="998676" y="1823552"/>
                </a:lnTo>
                <a:lnTo>
                  <a:pt x="964966" y="1903615"/>
                </a:lnTo>
                <a:lnTo>
                  <a:pt x="1015532" y="1945753"/>
                </a:lnTo>
                <a:lnTo>
                  <a:pt x="994463" y="2042671"/>
                </a:lnTo>
                <a:lnTo>
                  <a:pt x="1019746" y="2076382"/>
                </a:lnTo>
                <a:lnTo>
                  <a:pt x="990249" y="2110092"/>
                </a:lnTo>
                <a:lnTo>
                  <a:pt x="948110" y="2110092"/>
                </a:lnTo>
                <a:lnTo>
                  <a:pt x="939683" y="2148017"/>
                </a:lnTo>
                <a:lnTo>
                  <a:pt x="994463" y="2194369"/>
                </a:lnTo>
                <a:lnTo>
                  <a:pt x="981821" y="2375563"/>
                </a:lnTo>
                <a:lnTo>
                  <a:pt x="1015532" y="2455626"/>
                </a:lnTo>
                <a:lnTo>
                  <a:pt x="1049242" y="2455626"/>
                </a:lnTo>
                <a:lnTo>
                  <a:pt x="1129305" y="2523047"/>
                </a:lnTo>
                <a:lnTo>
                  <a:pt x="1125091" y="2653676"/>
                </a:lnTo>
                <a:lnTo>
                  <a:pt x="1087167" y="2716883"/>
                </a:lnTo>
                <a:lnTo>
                  <a:pt x="1015532" y="2784304"/>
                </a:lnTo>
                <a:lnTo>
                  <a:pt x="1007104" y="2872795"/>
                </a:lnTo>
                <a:lnTo>
                  <a:pt x="922828" y="2885436"/>
                </a:lnTo>
                <a:lnTo>
                  <a:pt x="868048" y="2889650"/>
                </a:lnTo>
                <a:lnTo>
                  <a:pt x="830123" y="2851725"/>
                </a:lnTo>
                <a:lnTo>
                  <a:pt x="577294" y="2872795"/>
                </a:lnTo>
                <a:lnTo>
                  <a:pt x="568866" y="2978140"/>
                </a:lnTo>
                <a:lnTo>
                  <a:pt x="514087" y="3011851"/>
                </a:lnTo>
                <a:lnTo>
                  <a:pt x="484590" y="2978140"/>
                </a:lnTo>
                <a:lnTo>
                  <a:pt x="446665" y="3003423"/>
                </a:lnTo>
                <a:lnTo>
                  <a:pt x="434024" y="3121410"/>
                </a:lnTo>
                <a:lnTo>
                  <a:pt x="328678" y="3247825"/>
                </a:lnTo>
                <a:lnTo>
                  <a:pt x="273899" y="3260466"/>
                </a:lnTo>
                <a:lnTo>
                  <a:pt x="252829" y="3311032"/>
                </a:lnTo>
                <a:lnTo>
                  <a:pt x="202263" y="3391095"/>
                </a:lnTo>
                <a:lnTo>
                  <a:pt x="164339" y="3420592"/>
                </a:lnTo>
                <a:lnTo>
                  <a:pt x="75849" y="3450089"/>
                </a:lnTo>
                <a:lnTo>
                  <a:pt x="12641" y="3483799"/>
                </a:lnTo>
                <a:lnTo>
                  <a:pt x="0" y="3563862"/>
                </a:lnTo>
                <a:lnTo>
                  <a:pt x="63207" y="3559648"/>
                </a:lnTo>
                <a:lnTo>
                  <a:pt x="96918" y="3513296"/>
                </a:lnTo>
                <a:lnTo>
                  <a:pt x="155911" y="3555434"/>
                </a:lnTo>
                <a:lnTo>
                  <a:pt x="164339" y="3635497"/>
                </a:lnTo>
                <a:lnTo>
                  <a:pt x="265471" y="3584931"/>
                </a:lnTo>
                <a:lnTo>
                  <a:pt x="252829" y="3525937"/>
                </a:lnTo>
                <a:lnTo>
                  <a:pt x="307609" y="3483799"/>
                </a:lnTo>
                <a:lnTo>
                  <a:pt x="345534" y="3445875"/>
                </a:lnTo>
                <a:lnTo>
                  <a:pt x="375030" y="3403736"/>
                </a:lnTo>
                <a:lnTo>
                  <a:pt x="497231" y="3412164"/>
                </a:lnTo>
                <a:lnTo>
                  <a:pt x="497231" y="3412164"/>
                </a:lnTo>
                <a:lnTo>
                  <a:pt x="568866" y="3445875"/>
                </a:lnTo>
                <a:lnTo>
                  <a:pt x="589935" y="3424806"/>
                </a:lnTo>
                <a:lnTo>
                  <a:pt x="648929" y="3454302"/>
                </a:lnTo>
                <a:lnTo>
                  <a:pt x="674212" y="3450089"/>
                </a:lnTo>
                <a:lnTo>
                  <a:pt x="720564" y="3513296"/>
                </a:lnTo>
                <a:lnTo>
                  <a:pt x="754275" y="3504868"/>
                </a:lnTo>
                <a:lnTo>
                  <a:pt x="804840" y="3429019"/>
                </a:lnTo>
                <a:lnTo>
                  <a:pt x="842765" y="3395309"/>
                </a:lnTo>
                <a:lnTo>
                  <a:pt x="830123" y="3340529"/>
                </a:lnTo>
                <a:lnTo>
                  <a:pt x="859620" y="3285749"/>
                </a:lnTo>
                <a:lnTo>
                  <a:pt x="918614" y="3235184"/>
                </a:lnTo>
                <a:lnTo>
                  <a:pt x="1011318" y="3218328"/>
                </a:lnTo>
                <a:lnTo>
                  <a:pt x="1078739" y="3205687"/>
                </a:lnTo>
                <a:lnTo>
                  <a:pt x="1163016" y="3277322"/>
                </a:lnTo>
                <a:lnTo>
                  <a:pt x="1222009" y="3311032"/>
                </a:lnTo>
                <a:lnTo>
                  <a:pt x="1226223" y="3264680"/>
                </a:lnTo>
                <a:lnTo>
                  <a:pt x="1243078" y="3256253"/>
                </a:lnTo>
                <a:lnTo>
                  <a:pt x="1344210" y="3277322"/>
                </a:lnTo>
                <a:lnTo>
                  <a:pt x="1398990" y="3285749"/>
                </a:lnTo>
                <a:lnTo>
                  <a:pt x="1436914" y="3214114"/>
                </a:lnTo>
                <a:lnTo>
                  <a:pt x="1495908" y="3205687"/>
                </a:lnTo>
                <a:lnTo>
                  <a:pt x="1597040" y="3260466"/>
                </a:lnTo>
                <a:lnTo>
                  <a:pt x="1656033" y="3281536"/>
                </a:lnTo>
                <a:lnTo>
                  <a:pt x="1719240" y="3222542"/>
                </a:lnTo>
                <a:lnTo>
                  <a:pt x="1715027" y="3150907"/>
                </a:lnTo>
                <a:lnTo>
                  <a:pt x="1833014" y="3201473"/>
                </a:lnTo>
                <a:lnTo>
                  <a:pt x="1862510" y="3150907"/>
                </a:lnTo>
                <a:lnTo>
                  <a:pt x="2018422" y="3129838"/>
                </a:lnTo>
                <a:lnTo>
                  <a:pt x="2186975" y="3188831"/>
                </a:lnTo>
                <a:lnTo>
                  <a:pt x="2254396" y="3104555"/>
                </a:lnTo>
                <a:lnTo>
                  <a:pt x="2338673" y="3104555"/>
                </a:lnTo>
                <a:lnTo>
                  <a:pt x="2380811" y="3049775"/>
                </a:lnTo>
                <a:lnTo>
                  <a:pt x="2456660" y="3053989"/>
                </a:lnTo>
                <a:lnTo>
                  <a:pt x="2469301" y="2973926"/>
                </a:lnTo>
                <a:lnTo>
                  <a:pt x="2595716" y="2906505"/>
                </a:lnTo>
                <a:lnTo>
                  <a:pt x="2595716" y="2805373"/>
                </a:lnTo>
                <a:lnTo>
                  <a:pt x="2616785" y="2767449"/>
                </a:lnTo>
                <a:lnTo>
                  <a:pt x="2591502" y="2742166"/>
                </a:lnTo>
                <a:lnTo>
                  <a:pt x="2515653" y="2742166"/>
                </a:lnTo>
                <a:lnTo>
                  <a:pt x="2460874" y="2754807"/>
                </a:lnTo>
                <a:lnTo>
                  <a:pt x="2435591" y="2767449"/>
                </a:lnTo>
                <a:lnTo>
                  <a:pt x="2397666" y="2716883"/>
                </a:lnTo>
                <a:lnTo>
                  <a:pt x="2347100" y="2691600"/>
                </a:lnTo>
                <a:lnTo>
                  <a:pt x="2410308" y="2653676"/>
                </a:lnTo>
                <a:lnTo>
                  <a:pt x="2439804" y="2506192"/>
                </a:lnTo>
                <a:lnTo>
                  <a:pt x="2481943" y="2539902"/>
                </a:lnTo>
                <a:lnTo>
                  <a:pt x="2532509" y="2468267"/>
                </a:lnTo>
                <a:lnTo>
                  <a:pt x="2545150" y="2430343"/>
                </a:lnTo>
                <a:lnTo>
                  <a:pt x="2633640" y="2316570"/>
                </a:lnTo>
                <a:lnTo>
                  <a:pt x="2650496" y="2223866"/>
                </a:lnTo>
                <a:lnTo>
                  <a:pt x="2696848" y="2148017"/>
                </a:lnTo>
                <a:cubicBezTo>
                  <a:pt x="2698253" y="2079191"/>
                  <a:pt x="2699657" y="2010365"/>
                  <a:pt x="2701062" y="1941539"/>
                </a:cubicBezTo>
                <a:lnTo>
                  <a:pt x="2503012" y="1806697"/>
                </a:lnTo>
                <a:lnTo>
                  <a:pt x="2237541" y="1777200"/>
                </a:lnTo>
                <a:lnTo>
                  <a:pt x="2161692" y="1865690"/>
                </a:lnTo>
                <a:lnTo>
                  <a:pt x="2123768" y="1857263"/>
                </a:lnTo>
                <a:lnTo>
                  <a:pt x="2111126" y="1806697"/>
                </a:lnTo>
                <a:lnTo>
                  <a:pt x="2203830" y="1709779"/>
                </a:lnTo>
                <a:lnTo>
                  <a:pt x="2178547" y="1570723"/>
                </a:lnTo>
                <a:lnTo>
                  <a:pt x="2090057" y="1478019"/>
                </a:lnTo>
                <a:lnTo>
                  <a:pt x="2056346" y="1448522"/>
                </a:lnTo>
                <a:lnTo>
                  <a:pt x="2127981" y="1435880"/>
                </a:lnTo>
                <a:lnTo>
                  <a:pt x="2127981" y="1402170"/>
                </a:lnTo>
                <a:lnTo>
                  <a:pt x="2031063" y="1275755"/>
                </a:lnTo>
                <a:lnTo>
                  <a:pt x="2022636" y="1191478"/>
                </a:lnTo>
                <a:lnTo>
                  <a:pt x="2056346" y="1128271"/>
                </a:lnTo>
                <a:lnTo>
                  <a:pt x="2039491" y="1094560"/>
                </a:lnTo>
                <a:lnTo>
                  <a:pt x="1967856" y="1073491"/>
                </a:lnTo>
                <a:lnTo>
                  <a:pt x="1929932" y="1014498"/>
                </a:lnTo>
                <a:lnTo>
                  <a:pt x="1934146" y="955504"/>
                </a:lnTo>
                <a:lnTo>
                  <a:pt x="1727668" y="837517"/>
                </a:lnTo>
                <a:lnTo>
                  <a:pt x="1664461" y="778524"/>
                </a:lnTo>
                <a:lnTo>
                  <a:pt x="1516977" y="239155"/>
                </a:lnTo>
                <a:lnTo>
                  <a:pt x="1407417" y="121169"/>
                </a:lnTo>
                <a:cubicBezTo>
                  <a:pt x="1368087" y="24250"/>
                  <a:pt x="1392152" y="41655"/>
                  <a:pt x="1365464" y="33227"/>
                </a:cubicBezTo>
                <a:close/>
              </a:path>
            </a:pathLst>
          </a:custGeom>
          <a:solidFill>
            <a:srgbClr val="8fc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3745080" y="4002120"/>
            <a:ext cx="155520" cy="225360"/>
          </a:xfrm>
          <a:custGeom>
            <a:avLst/>
            <a:gdLst/>
            <a:ahLst/>
            <a:rect l="l" t="t" r="r" b="b"/>
            <a:pathLst>
              <a:path w="156456" h="225992">
                <a:moveTo>
                  <a:pt x="156456" y="0"/>
                </a:moveTo>
                <a:lnTo>
                  <a:pt x="156456" y="104304"/>
                </a:lnTo>
                <a:lnTo>
                  <a:pt x="45199" y="215562"/>
                </a:lnTo>
                <a:lnTo>
                  <a:pt x="0" y="225992"/>
                </a:lnTo>
                <a:lnTo>
                  <a:pt x="6954" y="180794"/>
                </a:lnTo>
                <a:lnTo>
                  <a:pt x="52152" y="93874"/>
                </a:lnTo>
                <a:lnTo>
                  <a:pt x="55629" y="48675"/>
                </a:lnTo>
                <a:lnTo>
                  <a:pt x="156456" y="0"/>
                </a:lnTo>
                <a:close/>
              </a:path>
            </a:pathLst>
          </a:custGeom>
          <a:solidFill>
            <a:srgbClr val="8fc3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3184560" y="1414440"/>
            <a:ext cx="1568520" cy="2459160"/>
          </a:xfrm>
          <a:custGeom>
            <a:avLst/>
            <a:gdLst/>
            <a:ahLst/>
            <a:rect l="l" t="t" r="r" b="b"/>
            <a:pathLst>
              <a:path w="1568040" h="2458102">
                <a:moveTo>
                  <a:pt x="1192545" y="41722"/>
                </a:moveTo>
                <a:lnTo>
                  <a:pt x="1161254" y="139072"/>
                </a:lnTo>
                <a:lnTo>
                  <a:pt x="1189068" y="170364"/>
                </a:lnTo>
                <a:lnTo>
                  <a:pt x="1074333" y="267714"/>
                </a:lnTo>
                <a:lnTo>
                  <a:pt x="872679" y="448508"/>
                </a:lnTo>
                <a:lnTo>
                  <a:pt x="872679" y="490230"/>
                </a:lnTo>
                <a:lnTo>
                  <a:pt x="792712" y="500660"/>
                </a:lnTo>
                <a:lnTo>
                  <a:pt x="862248" y="521521"/>
                </a:lnTo>
                <a:lnTo>
                  <a:pt x="952645" y="518044"/>
                </a:lnTo>
                <a:lnTo>
                  <a:pt x="792712" y="702315"/>
                </a:lnTo>
                <a:lnTo>
                  <a:pt x="1015228" y="618872"/>
                </a:lnTo>
                <a:lnTo>
                  <a:pt x="1088241" y="584103"/>
                </a:lnTo>
                <a:lnTo>
                  <a:pt x="1147346" y="625825"/>
                </a:lnTo>
                <a:lnTo>
                  <a:pt x="1216883" y="615395"/>
                </a:lnTo>
                <a:lnTo>
                  <a:pt x="1477643" y="604964"/>
                </a:lnTo>
                <a:lnTo>
                  <a:pt x="1568040" y="726653"/>
                </a:lnTo>
                <a:lnTo>
                  <a:pt x="1477643" y="883109"/>
                </a:lnTo>
                <a:lnTo>
                  <a:pt x="1470689" y="976983"/>
                </a:lnTo>
                <a:lnTo>
                  <a:pt x="1415060" y="1102148"/>
                </a:lnTo>
                <a:lnTo>
                  <a:pt x="1335094" y="1241220"/>
                </a:lnTo>
                <a:lnTo>
                  <a:pt x="1324663" y="1303802"/>
                </a:lnTo>
                <a:lnTo>
                  <a:pt x="1237743" y="1373338"/>
                </a:lnTo>
                <a:lnTo>
                  <a:pt x="1282942" y="1442875"/>
                </a:lnTo>
                <a:lnTo>
                  <a:pt x="1289895" y="1512411"/>
                </a:lnTo>
                <a:lnTo>
                  <a:pt x="1227313" y="1533272"/>
                </a:lnTo>
                <a:lnTo>
                  <a:pt x="1178638" y="1519364"/>
                </a:lnTo>
                <a:lnTo>
                  <a:pt x="1109102" y="1606284"/>
                </a:lnTo>
                <a:lnTo>
                  <a:pt x="931784" y="1616715"/>
                </a:lnTo>
                <a:lnTo>
                  <a:pt x="1164730" y="1668867"/>
                </a:lnTo>
                <a:lnTo>
                  <a:pt x="1223836" y="1609761"/>
                </a:lnTo>
                <a:lnTo>
                  <a:pt x="1383769" y="1675821"/>
                </a:lnTo>
                <a:lnTo>
                  <a:pt x="1442875" y="1759264"/>
                </a:lnTo>
                <a:lnTo>
                  <a:pt x="1376816" y="1846184"/>
                </a:lnTo>
                <a:lnTo>
                  <a:pt x="1394200" y="2006117"/>
                </a:lnTo>
                <a:lnTo>
                  <a:pt x="1075548" y="2280481"/>
                </a:lnTo>
                <a:lnTo>
                  <a:pt x="973506" y="2280785"/>
                </a:lnTo>
                <a:lnTo>
                  <a:pt x="970029" y="2332937"/>
                </a:lnTo>
                <a:lnTo>
                  <a:pt x="897016" y="2343367"/>
                </a:lnTo>
                <a:lnTo>
                  <a:pt x="820527" y="2392043"/>
                </a:lnTo>
                <a:lnTo>
                  <a:pt x="726653" y="2353798"/>
                </a:lnTo>
                <a:lnTo>
                  <a:pt x="719699" y="2437241"/>
                </a:lnTo>
                <a:lnTo>
                  <a:pt x="681454" y="2447672"/>
                </a:lnTo>
                <a:lnTo>
                  <a:pt x="604965" y="2402473"/>
                </a:lnTo>
                <a:lnTo>
                  <a:pt x="566720" y="2332937"/>
                </a:lnTo>
                <a:lnTo>
                  <a:pt x="524998" y="2353798"/>
                </a:lnTo>
                <a:lnTo>
                  <a:pt x="556289" y="2426811"/>
                </a:lnTo>
                <a:lnTo>
                  <a:pt x="535429" y="2458102"/>
                </a:lnTo>
                <a:lnTo>
                  <a:pt x="500660" y="2458102"/>
                </a:lnTo>
                <a:lnTo>
                  <a:pt x="493707" y="2392043"/>
                </a:lnTo>
                <a:lnTo>
                  <a:pt x="455462" y="2315553"/>
                </a:lnTo>
                <a:lnTo>
                  <a:pt x="445032" y="2235586"/>
                </a:lnTo>
                <a:lnTo>
                  <a:pt x="486753" y="2263401"/>
                </a:lnTo>
                <a:lnTo>
                  <a:pt x="476323" y="2186911"/>
                </a:lnTo>
                <a:lnTo>
                  <a:pt x="556289" y="2099991"/>
                </a:lnTo>
                <a:lnTo>
                  <a:pt x="570197" y="2030455"/>
                </a:lnTo>
                <a:lnTo>
                  <a:pt x="646686" y="1919197"/>
                </a:lnTo>
                <a:lnTo>
                  <a:pt x="601488" y="1849661"/>
                </a:lnTo>
                <a:lnTo>
                  <a:pt x="566720" y="1794032"/>
                </a:lnTo>
                <a:lnTo>
                  <a:pt x="538905" y="1693205"/>
                </a:lnTo>
                <a:lnTo>
                  <a:pt x="524998" y="1807939"/>
                </a:lnTo>
                <a:lnTo>
                  <a:pt x="434601" y="1721019"/>
                </a:lnTo>
                <a:lnTo>
                  <a:pt x="372019" y="1787078"/>
                </a:lnTo>
                <a:lnTo>
                  <a:pt x="368542" y="1926151"/>
                </a:lnTo>
                <a:lnTo>
                  <a:pt x="333774" y="1964396"/>
                </a:lnTo>
                <a:lnTo>
                  <a:pt x="361588" y="2006117"/>
                </a:lnTo>
                <a:lnTo>
                  <a:pt x="292052" y="2051316"/>
                </a:lnTo>
                <a:lnTo>
                  <a:pt x="222516" y="2023501"/>
                </a:lnTo>
                <a:lnTo>
                  <a:pt x="267714" y="1929627"/>
                </a:lnTo>
                <a:lnTo>
                  <a:pt x="295529" y="1842707"/>
                </a:lnTo>
                <a:lnTo>
                  <a:pt x="316390" y="1762741"/>
                </a:lnTo>
                <a:lnTo>
                  <a:pt x="299006" y="1689728"/>
                </a:lnTo>
                <a:lnTo>
                  <a:pt x="267714" y="1592377"/>
                </a:lnTo>
                <a:lnTo>
                  <a:pt x="205132" y="1741880"/>
                </a:lnTo>
                <a:lnTo>
                  <a:pt x="184271" y="1738403"/>
                </a:lnTo>
                <a:lnTo>
                  <a:pt x="205132" y="1807939"/>
                </a:lnTo>
                <a:lnTo>
                  <a:pt x="104305" y="1853138"/>
                </a:lnTo>
                <a:lnTo>
                  <a:pt x="79967" y="1839230"/>
                </a:lnTo>
                <a:lnTo>
                  <a:pt x="93874" y="1748834"/>
                </a:lnTo>
                <a:lnTo>
                  <a:pt x="34768" y="1794032"/>
                </a:lnTo>
                <a:lnTo>
                  <a:pt x="41722" y="1700158"/>
                </a:lnTo>
                <a:lnTo>
                  <a:pt x="83444" y="1651483"/>
                </a:lnTo>
                <a:lnTo>
                  <a:pt x="152980" y="1627145"/>
                </a:lnTo>
                <a:lnTo>
                  <a:pt x="156457" y="1672344"/>
                </a:lnTo>
                <a:lnTo>
                  <a:pt x="212086" y="1630622"/>
                </a:lnTo>
                <a:lnTo>
                  <a:pt x="225993" y="1578470"/>
                </a:lnTo>
                <a:lnTo>
                  <a:pt x="271191" y="1540225"/>
                </a:lnTo>
                <a:lnTo>
                  <a:pt x="299006" y="1470689"/>
                </a:lnTo>
                <a:lnTo>
                  <a:pt x="472846" y="1209929"/>
                </a:lnTo>
                <a:lnTo>
                  <a:pt x="458939" y="1182114"/>
                </a:lnTo>
                <a:lnTo>
                  <a:pt x="344204" y="1321186"/>
                </a:lnTo>
                <a:lnTo>
                  <a:pt x="333774" y="1362908"/>
                </a:lnTo>
                <a:lnTo>
                  <a:pt x="264238" y="1415060"/>
                </a:lnTo>
                <a:lnTo>
                  <a:pt x="142549" y="1418537"/>
                </a:lnTo>
                <a:lnTo>
                  <a:pt x="121689" y="1432444"/>
                </a:lnTo>
                <a:lnTo>
                  <a:pt x="76490" y="1373338"/>
                </a:lnTo>
                <a:lnTo>
                  <a:pt x="163410" y="1380292"/>
                </a:lnTo>
                <a:lnTo>
                  <a:pt x="163410" y="1345524"/>
                </a:lnTo>
                <a:lnTo>
                  <a:pt x="191225" y="1317710"/>
                </a:lnTo>
                <a:lnTo>
                  <a:pt x="135596" y="1317710"/>
                </a:lnTo>
                <a:lnTo>
                  <a:pt x="111258" y="1251650"/>
                </a:lnTo>
                <a:lnTo>
                  <a:pt x="187748" y="1196021"/>
                </a:lnTo>
                <a:lnTo>
                  <a:pt x="219039" y="1234266"/>
                </a:lnTo>
                <a:lnTo>
                  <a:pt x="222516" y="1178637"/>
                </a:lnTo>
                <a:lnTo>
                  <a:pt x="156457" y="1171684"/>
                </a:lnTo>
                <a:lnTo>
                  <a:pt x="180794" y="1136916"/>
                </a:lnTo>
                <a:lnTo>
                  <a:pt x="229470" y="1140392"/>
                </a:lnTo>
                <a:lnTo>
                  <a:pt x="232946" y="1112578"/>
                </a:lnTo>
                <a:lnTo>
                  <a:pt x="264238" y="1102148"/>
                </a:lnTo>
                <a:lnTo>
                  <a:pt x="246854" y="1036088"/>
                </a:lnTo>
                <a:lnTo>
                  <a:pt x="292052" y="1043042"/>
                </a:lnTo>
                <a:lnTo>
                  <a:pt x="295529" y="994367"/>
                </a:lnTo>
                <a:lnTo>
                  <a:pt x="292052" y="983936"/>
                </a:lnTo>
                <a:lnTo>
                  <a:pt x="337251" y="924830"/>
                </a:lnTo>
                <a:lnTo>
                  <a:pt x="406787" y="949168"/>
                </a:lnTo>
                <a:lnTo>
                  <a:pt x="333774" y="879632"/>
                </a:lnTo>
                <a:lnTo>
                  <a:pt x="239900" y="987413"/>
                </a:lnTo>
                <a:lnTo>
                  <a:pt x="215562" y="938738"/>
                </a:lnTo>
                <a:lnTo>
                  <a:pt x="250330" y="893539"/>
                </a:lnTo>
                <a:lnTo>
                  <a:pt x="187748" y="917877"/>
                </a:lnTo>
                <a:lnTo>
                  <a:pt x="118212" y="848341"/>
                </a:lnTo>
                <a:lnTo>
                  <a:pt x="83444" y="757944"/>
                </a:lnTo>
                <a:lnTo>
                  <a:pt x="34768" y="778805"/>
                </a:lnTo>
                <a:lnTo>
                  <a:pt x="0" y="719699"/>
                </a:lnTo>
                <a:lnTo>
                  <a:pt x="20861" y="660593"/>
                </a:lnTo>
                <a:lnTo>
                  <a:pt x="48676" y="688408"/>
                </a:lnTo>
                <a:lnTo>
                  <a:pt x="62583" y="622348"/>
                </a:lnTo>
                <a:lnTo>
                  <a:pt x="125165" y="667547"/>
                </a:lnTo>
                <a:lnTo>
                  <a:pt x="135596" y="573673"/>
                </a:lnTo>
                <a:lnTo>
                  <a:pt x="184271" y="570196"/>
                </a:lnTo>
                <a:lnTo>
                  <a:pt x="225993" y="622348"/>
                </a:lnTo>
                <a:lnTo>
                  <a:pt x="222516" y="671024"/>
                </a:lnTo>
                <a:lnTo>
                  <a:pt x="264238" y="691884"/>
                </a:lnTo>
                <a:lnTo>
                  <a:pt x="267714" y="775328"/>
                </a:lnTo>
                <a:lnTo>
                  <a:pt x="264238" y="841387"/>
                </a:lnTo>
                <a:lnTo>
                  <a:pt x="309436" y="813573"/>
                </a:lnTo>
                <a:lnTo>
                  <a:pt x="340727" y="782281"/>
                </a:lnTo>
                <a:lnTo>
                  <a:pt x="295529" y="764897"/>
                </a:lnTo>
                <a:lnTo>
                  <a:pt x="305959" y="636256"/>
                </a:lnTo>
                <a:lnTo>
                  <a:pt x="385926" y="671024"/>
                </a:lnTo>
                <a:lnTo>
                  <a:pt x="316390" y="587580"/>
                </a:lnTo>
                <a:lnTo>
                  <a:pt x="365065" y="563243"/>
                </a:lnTo>
                <a:lnTo>
                  <a:pt x="316390" y="472846"/>
                </a:lnTo>
                <a:lnTo>
                  <a:pt x="347681" y="479799"/>
                </a:lnTo>
                <a:lnTo>
                  <a:pt x="420694" y="528475"/>
                </a:lnTo>
                <a:lnTo>
                  <a:pt x="389403" y="420694"/>
                </a:lnTo>
                <a:lnTo>
                  <a:pt x="424171" y="451985"/>
                </a:lnTo>
                <a:lnTo>
                  <a:pt x="462416" y="424170"/>
                </a:lnTo>
                <a:lnTo>
                  <a:pt x="504137" y="438078"/>
                </a:lnTo>
                <a:lnTo>
                  <a:pt x="500660" y="403310"/>
                </a:lnTo>
                <a:lnTo>
                  <a:pt x="434601" y="382449"/>
                </a:lnTo>
                <a:lnTo>
                  <a:pt x="434601" y="323343"/>
                </a:lnTo>
                <a:lnTo>
                  <a:pt x="493707" y="337250"/>
                </a:lnTo>
                <a:lnTo>
                  <a:pt x="497184" y="305959"/>
                </a:lnTo>
                <a:lnTo>
                  <a:pt x="458939" y="236423"/>
                </a:lnTo>
                <a:lnTo>
                  <a:pt x="514568" y="232946"/>
                </a:lnTo>
                <a:lnTo>
                  <a:pt x="538905" y="243377"/>
                </a:lnTo>
                <a:lnTo>
                  <a:pt x="552813" y="225992"/>
                </a:lnTo>
                <a:lnTo>
                  <a:pt x="524998" y="177317"/>
                </a:lnTo>
                <a:lnTo>
                  <a:pt x="556289" y="135596"/>
                </a:lnTo>
                <a:lnTo>
                  <a:pt x="570197" y="55629"/>
                </a:lnTo>
                <a:lnTo>
                  <a:pt x="643209" y="31291"/>
                </a:lnTo>
                <a:lnTo>
                  <a:pt x="691885" y="66059"/>
                </a:lnTo>
                <a:lnTo>
                  <a:pt x="740560" y="62583"/>
                </a:lnTo>
                <a:lnTo>
                  <a:pt x="778805" y="79967"/>
                </a:lnTo>
                <a:lnTo>
                  <a:pt x="848341" y="66059"/>
                </a:lnTo>
                <a:lnTo>
                  <a:pt x="883109" y="41722"/>
                </a:lnTo>
                <a:lnTo>
                  <a:pt x="886586" y="59106"/>
                </a:lnTo>
                <a:lnTo>
                  <a:pt x="956122" y="59106"/>
                </a:lnTo>
                <a:lnTo>
                  <a:pt x="983936" y="34768"/>
                </a:lnTo>
                <a:lnTo>
                  <a:pt x="1046519" y="45199"/>
                </a:lnTo>
                <a:lnTo>
                  <a:pt x="1081287" y="62583"/>
                </a:lnTo>
                <a:lnTo>
                  <a:pt x="1056949" y="0"/>
                </a:lnTo>
                <a:lnTo>
                  <a:pt x="1102148" y="13907"/>
                </a:lnTo>
                <a:lnTo>
                  <a:pt x="1119532" y="6954"/>
                </a:lnTo>
                <a:lnTo>
                  <a:pt x="1129962" y="24338"/>
                </a:lnTo>
                <a:lnTo>
                  <a:pt x="1192545" y="41722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"/>
          <p:cNvSpPr/>
          <p:nvPr/>
        </p:nvSpPr>
        <p:spPr>
          <a:xfrm>
            <a:off x="3110040" y="1498680"/>
            <a:ext cx="326880" cy="431640"/>
          </a:xfrm>
          <a:custGeom>
            <a:avLst/>
            <a:gdLst/>
            <a:ahLst/>
            <a:rect l="l" t="t" r="r" b="b"/>
            <a:pathLst>
              <a:path w="326571" h="431800">
                <a:moveTo>
                  <a:pt x="326571" y="3629"/>
                </a:moveTo>
                <a:lnTo>
                  <a:pt x="243114" y="0"/>
                </a:lnTo>
                <a:lnTo>
                  <a:pt x="163285" y="76200"/>
                </a:lnTo>
                <a:lnTo>
                  <a:pt x="137885" y="72571"/>
                </a:lnTo>
                <a:lnTo>
                  <a:pt x="105228" y="134257"/>
                </a:lnTo>
                <a:lnTo>
                  <a:pt x="29028" y="123371"/>
                </a:lnTo>
                <a:lnTo>
                  <a:pt x="32657" y="177800"/>
                </a:lnTo>
                <a:lnTo>
                  <a:pt x="0" y="206829"/>
                </a:lnTo>
                <a:lnTo>
                  <a:pt x="32657" y="290286"/>
                </a:lnTo>
                <a:lnTo>
                  <a:pt x="7257" y="333829"/>
                </a:lnTo>
                <a:lnTo>
                  <a:pt x="76200" y="337457"/>
                </a:lnTo>
                <a:lnTo>
                  <a:pt x="0" y="410029"/>
                </a:lnTo>
                <a:lnTo>
                  <a:pt x="36285" y="431800"/>
                </a:lnTo>
                <a:lnTo>
                  <a:pt x="112485" y="399143"/>
                </a:lnTo>
                <a:lnTo>
                  <a:pt x="123371" y="333829"/>
                </a:lnTo>
                <a:lnTo>
                  <a:pt x="170543" y="337457"/>
                </a:lnTo>
                <a:lnTo>
                  <a:pt x="224971" y="283029"/>
                </a:lnTo>
                <a:lnTo>
                  <a:pt x="217714" y="214086"/>
                </a:lnTo>
                <a:lnTo>
                  <a:pt x="254000" y="199571"/>
                </a:lnTo>
                <a:lnTo>
                  <a:pt x="261257" y="177800"/>
                </a:lnTo>
                <a:lnTo>
                  <a:pt x="301171" y="185057"/>
                </a:lnTo>
                <a:lnTo>
                  <a:pt x="322943" y="141514"/>
                </a:lnTo>
                <a:lnTo>
                  <a:pt x="283028" y="127000"/>
                </a:lnTo>
                <a:lnTo>
                  <a:pt x="301171" y="72571"/>
                </a:lnTo>
                <a:lnTo>
                  <a:pt x="326571" y="3629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2982960" y="1952640"/>
            <a:ext cx="141120" cy="401760"/>
          </a:xfrm>
          <a:custGeom>
            <a:avLst/>
            <a:gdLst/>
            <a:ahLst/>
            <a:rect l="l" t="t" r="r" b="b"/>
            <a:pathLst>
              <a:path w="141514" h="402772">
                <a:moveTo>
                  <a:pt x="0" y="0"/>
                </a:moveTo>
                <a:lnTo>
                  <a:pt x="141514" y="25400"/>
                </a:lnTo>
                <a:lnTo>
                  <a:pt x="123371" y="97972"/>
                </a:lnTo>
                <a:lnTo>
                  <a:pt x="130628" y="148772"/>
                </a:lnTo>
                <a:lnTo>
                  <a:pt x="87085" y="177800"/>
                </a:lnTo>
                <a:lnTo>
                  <a:pt x="68943" y="224972"/>
                </a:lnTo>
                <a:lnTo>
                  <a:pt x="90714" y="254000"/>
                </a:lnTo>
                <a:lnTo>
                  <a:pt x="61685" y="304800"/>
                </a:lnTo>
                <a:lnTo>
                  <a:pt x="61685" y="373743"/>
                </a:lnTo>
                <a:lnTo>
                  <a:pt x="29028" y="402772"/>
                </a:lnTo>
                <a:lnTo>
                  <a:pt x="7257" y="359229"/>
                </a:lnTo>
                <a:lnTo>
                  <a:pt x="0" y="250372"/>
                </a:lnTo>
                <a:lnTo>
                  <a:pt x="14514" y="170543"/>
                </a:lnTo>
                <a:lnTo>
                  <a:pt x="36285" y="112486"/>
                </a:lnTo>
                <a:lnTo>
                  <a:pt x="3628" y="50800"/>
                </a:lnTo>
                <a:lnTo>
                  <a:pt x="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2"/>
          <p:cNvSpPr/>
          <p:nvPr/>
        </p:nvSpPr>
        <p:spPr>
          <a:xfrm>
            <a:off x="2917800" y="2362320"/>
            <a:ext cx="93600" cy="68040"/>
          </a:xfrm>
          <a:custGeom>
            <a:avLst/>
            <a:gdLst/>
            <a:ahLst/>
            <a:rect l="l" t="t" r="r" b="b"/>
            <a:pathLst>
              <a:path w="94343" h="68943">
                <a:moveTo>
                  <a:pt x="0" y="43543"/>
                </a:moveTo>
                <a:lnTo>
                  <a:pt x="36286" y="68943"/>
                </a:lnTo>
                <a:lnTo>
                  <a:pt x="94343" y="21771"/>
                </a:lnTo>
                <a:lnTo>
                  <a:pt x="50800" y="0"/>
                </a:lnTo>
                <a:lnTo>
                  <a:pt x="0" y="43543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2887560" y="2463840"/>
            <a:ext cx="33480" cy="73080"/>
          </a:xfrm>
          <a:custGeom>
            <a:avLst/>
            <a:gdLst/>
            <a:ahLst/>
            <a:rect l="l" t="t" r="r" b="b"/>
            <a:pathLst>
              <a:path w="32657" h="72571">
                <a:moveTo>
                  <a:pt x="32657" y="0"/>
                </a:moveTo>
                <a:lnTo>
                  <a:pt x="0" y="25400"/>
                </a:lnTo>
                <a:lnTo>
                  <a:pt x="10886" y="54429"/>
                </a:lnTo>
                <a:lnTo>
                  <a:pt x="29028" y="72571"/>
                </a:lnTo>
                <a:lnTo>
                  <a:pt x="32657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6"/>
          <p:cNvSpPr/>
          <p:nvPr/>
        </p:nvSpPr>
        <p:spPr>
          <a:xfrm>
            <a:off x="3233880" y="2344680"/>
            <a:ext cx="50760" cy="54000"/>
          </a:xfrm>
          <a:custGeom>
            <a:avLst/>
            <a:gdLst/>
            <a:ahLst/>
            <a:rect l="l" t="t" r="r" b="b"/>
            <a:pathLst>
              <a:path w="50800" h="54429">
                <a:moveTo>
                  <a:pt x="0" y="0"/>
                </a:moveTo>
                <a:lnTo>
                  <a:pt x="21772" y="-11107"/>
                </a:lnTo>
                <a:lnTo>
                  <a:pt x="-14736" y="21772"/>
                </a:lnTo>
                <a:lnTo>
                  <a:pt x="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7"/>
          <p:cNvSpPr/>
          <p:nvPr/>
        </p:nvSpPr>
        <p:spPr>
          <a:xfrm>
            <a:off x="3290760" y="2362320"/>
            <a:ext cx="59040" cy="98280"/>
          </a:xfrm>
          <a:custGeom>
            <a:avLst/>
            <a:gdLst/>
            <a:ahLst/>
            <a:rect l="l" t="t" r="r" b="b"/>
            <a:pathLst>
              <a:path w="58057" h="97971">
                <a:moveTo>
                  <a:pt x="58057" y="0"/>
                </a:moveTo>
                <a:lnTo>
                  <a:pt x="0" y="7257"/>
                </a:lnTo>
                <a:lnTo>
                  <a:pt x="0" y="65314"/>
                </a:lnTo>
                <a:lnTo>
                  <a:pt x="21772" y="97971"/>
                </a:lnTo>
                <a:lnTo>
                  <a:pt x="47172" y="61686"/>
                </a:lnTo>
                <a:lnTo>
                  <a:pt x="58057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2"/>
          <p:cNvSpPr/>
          <p:nvPr/>
        </p:nvSpPr>
        <p:spPr>
          <a:xfrm>
            <a:off x="3355920" y="2438280"/>
            <a:ext cx="30240" cy="65160"/>
          </a:xfrm>
          <a:custGeom>
            <a:avLst/>
            <a:gdLst/>
            <a:ahLst/>
            <a:rect l="l" t="t" r="r" b="b"/>
            <a:pathLst>
              <a:path w="29028" h="65314">
                <a:moveTo>
                  <a:pt x="29028" y="0"/>
                </a:moveTo>
                <a:lnTo>
                  <a:pt x="0" y="-222"/>
                </a:lnTo>
                <a:lnTo>
                  <a:pt x="29028" y="-7479"/>
                </a:lnTo>
                <a:lnTo>
                  <a:pt x="29028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3"/>
          <p:cNvSpPr/>
          <p:nvPr/>
        </p:nvSpPr>
        <p:spPr>
          <a:xfrm>
            <a:off x="3214800" y="2583000"/>
            <a:ext cx="50760" cy="83880"/>
          </a:xfrm>
          <a:custGeom>
            <a:avLst/>
            <a:gdLst/>
            <a:ahLst/>
            <a:rect l="l" t="t" r="r" b="b"/>
            <a:pathLst>
              <a:path w="50800" h="83457">
                <a:moveTo>
                  <a:pt x="50800" y="0"/>
                </a:moveTo>
                <a:lnTo>
                  <a:pt x="0" y="47171"/>
                </a:lnTo>
                <a:lnTo>
                  <a:pt x="7257" y="83457"/>
                </a:lnTo>
                <a:lnTo>
                  <a:pt x="32657" y="54428"/>
                </a:lnTo>
                <a:lnTo>
                  <a:pt x="5080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4"/>
          <p:cNvSpPr/>
          <p:nvPr/>
        </p:nvSpPr>
        <p:spPr>
          <a:xfrm>
            <a:off x="3076560" y="2678040"/>
            <a:ext cx="76320" cy="50760"/>
          </a:xfrm>
          <a:custGeom>
            <a:avLst/>
            <a:gdLst/>
            <a:ahLst/>
            <a:rect l="l" t="t" r="r" b="b"/>
            <a:pathLst>
              <a:path w="76200" h="50800">
                <a:moveTo>
                  <a:pt x="76200" y="0"/>
                </a:moveTo>
                <a:lnTo>
                  <a:pt x="0" y="7257"/>
                </a:lnTo>
                <a:lnTo>
                  <a:pt x="25400" y="50800"/>
                </a:lnTo>
                <a:lnTo>
                  <a:pt x="68942" y="50800"/>
                </a:lnTo>
                <a:lnTo>
                  <a:pt x="7620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5"/>
          <p:cNvSpPr/>
          <p:nvPr/>
        </p:nvSpPr>
        <p:spPr>
          <a:xfrm>
            <a:off x="3589200" y="3182760"/>
            <a:ext cx="82800" cy="195480"/>
          </a:xfrm>
          <a:custGeom>
            <a:avLst/>
            <a:gdLst/>
            <a:ahLst/>
            <a:rect l="l" t="t" r="r" b="b"/>
            <a:pathLst>
              <a:path w="83457" h="195943">
                <a:moveTo>
                  <a:pt x="65314" y="39914"/>
                </a:moveTo>
                <a:lnTo>
                  <a:pt x="18143" y="0"/>
                </a:lnTo>
                <a:lnTo>
                  <a:pt x="0" y="47172"/>
                </a:lnTo>
                <a:lnTo>
                  <a:pt x="0" y="159657"/>
                </a:lnTo>
                <a:lnTo>
                  <a:pt x="43543" y="195943"/>
                </a:lnTo>
                <a:lnTo>
                  <a:pt x="83457" y="174172"/>
                </a:lnTo>
                <a:lnTo>
                  <a:pt x="79829" y="130629"/>
                </a:lnTo>
                <a:lnTo>
                  <a:pt x="65314" y="39914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6"/>
          <p:cNvSpPr/>
          <p:nvPr/>
        </p:nvSpPr>
        <p:spPr>
          <a:xfrm>
            <a:off x="3309840" y="2932200"/>
            <a:ext cx="34920" cy="93600"/>
          </a:xfrm>
          <a:custGeom>
            <a:avLst/>
            <a:gdLst/>
            <a:ahLst/>
            <a:rect l="l" t="t" r="r" b="b"/>
            <a:pathLst>
              <a:path w="36286" h="94343">
                <a:moveTo>
                  <a:pt x="32657" y="0"/>
                </a:moveTo>
                <a:lnTo>
                  <a:pt x="7257" y="36285"/>
                </a:lnTo>
                <a:lnTo>
                  <a:pt x="0" y="94343"/>
                </a:lnTo>
                <a:lnTo>
                  <a:pt x="36286" y="90714"/>
                </a:lnTo>
                <a:lnTo>
                  <a:pt x="32657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7"/>
          <p:cNvSpPr/>
          <p:nvPr/>
        </p:nvSpPr>
        <p:spPr>
          <a:xfrm>
            <a:off x="4735440" y="185760"/>
            <a:ext cx="293760" cy="554040"/>
          </a:xfrm>
          <a:custGeom>
            <a:avLst/>
            <a:gdLst/>
            <a:ahLst/>
            <a:rect l="l" t="t" r="r" b="b"/>
            <a:pathLst>
              <a:path w="293914" h="555172">
                <a:moveTo>
                  <a:pt x="177800" y="3629"/>
                </a:moveTo>
                <a:lnTo>
                  <a:pt x="163285" y="90714"/>
                </a:lnTo>
                <a:lnTo>
                  <a:pt x="130628" y="148772"/>
                </a:lnTo>
                <a:lnTo>
                  <a:pt x="127000" y="108857"/>
                </a:lnTo>
                <a:lnTo>
                  <a:pt x="101600" y="54429"/>
                </a:lnTo>
                <a:lnTo>
                  <a:pt x="50800" y="105229"/>
                </a:lnTo>
                <a:lnTo>
                  <a:pt x="36285" y="145143"/>
                </a:lnTo>
                <a:lnTo>
                  <a:pt x="83457" y="166914"/>
                </a:lnTo>
                <a:lnTo>
                  <a:pt x="50800" y="250372"/>
                </a:lnTo>
                <a:lnTo>
                  <a:pt x="21771" y="221343"/>
                </a:lnTo>
                <a:lnTo>
                  <a:pt x="0" y="239486"/>
                </a:lnTo>
                <a:lnTo>
                  <a:pt x="29028" y="286657"/>
                </a:lnTo>
                <a:lnTo>
                  <a:pt x="32657" y="330200"/>
                </a:lnTo>
                <a:lnTo>
                  <a:pt x="79828" y="351972"/>
                </a:lnTo>
                <a:lnTo>
                  <a:pt x="116114" y="315686"/>
                </a:lnTo>
                <a:lnTo>
                  <a:pt x="134257" y="381000"/>
                </a:lnTo>
                <a:lnTo>
                  <a:pt x="101600" y="420914"/>
                </a:lnTo>
                <a:lnTo>
                  <a:pt x="127000" y="486229"/>
                </a:lnTo>
                <a:lnTo>
                  <a:pt x="123371" y="555172"/>
                </a:lnTo>
                <a:lnTo>
                  <a:pt x="170543" y="493486"/>
                </a:lnTo>
                <a:lnTo>
                  <a:pt x="185057" y="388257"/>
                </a:lnTo>
                <a:lnTo>
                  <a:pt x="177800" y="326572"/>
                </a:lnTo>
                <a:cubicBezTo>
                  <a:pt x="197349" y="353940"/>
                  <a:pt x="185538" y="351972"/>
                  <a:pt x="203200" y="351972"/>
                </a:cubicBezTo>
                <a:lnTo>
                  <a:pt x="214085" y="370114"/>
                </a:lnTo>
                <a:lnTo>
                  <a:pt x="177800" y="290286"/>
                </a:lnTo>
                <a:lnTo>
                  <a:pt x="206828" y="250372"/>
                </a:lnTo>
                <a:lnTo>
                  <a:pt x="250371" y="214086"/>
                </a:lnTo>
                <a:lnTo>
                  <a:pt x="177800" y="177800"/>
                </a:lnTo>
                <a:lnTo>
                  <a:pt x="232228" y="116114"/>
                </a:lnTo>
                <a:lnTo>
                  <a:pt x="293914" y="76200"/>
                </a:lnTo>
                <a:lnTo>
                  <a:pt x="232228" y="47172"/>
                </a:lnTo>
                <a:lnTo>
                  <a:pt x="243114" y="0"/>
                </a:lnTo>
                <a:lnTo>
                  <a:pt x="177800" y="3629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8"/>
          <p:cNvSpPr/>
          <p:nvPr/>
        </p:nvSpPr>
        <p:spPr>
          <a:xfrm>
            <a:off x="4238640" y="998640"/>
            <a:ext cx="293760" cy="395280"/>
          </a:xfrm>
          <a:custGeom>
            <a:avLst/>
            <a:gdLst/>
            <a:ahLst/>
            <a:rect l="l" t="t" r="r" b="b"/>
            <a:pathLst>
              <a:path w="293915" h="395514">
                <a:moveTo>
                  <a:pt x="203200" y="0"/>
                </a:moveTo>
                <a:lnTo>
                  <a:pt x="116115" y="32657"/>
                </a:lnTo>
                <a:lnTo>
                  <a:pt x="145143" y="79829"/>
                </a:lnTo>
                <a:lnTo>
                  <a:pt x="174172" y="101600"/>
                </a:lnTo>
                <a:lnTo>
                  <a:pt x="148772" y="137886"/>
                </a:lnTo>
                <a:lnTo>
                  <a:pt x="123372" y="112486"/>
                </a:lnTo>
                <a:lnTo>
                  <a:pt x="94343" y="123372"/>
                </a:lnTo>
                <a:lnTo>
                  <a:pt x="97972" y="148772"/>
                </a:lnTo>
                <a:lnTo>
                  <a:pt x="50800" y="130629"/>
                </a:lnTo>
                <a:lnTo>
                  <a:pt x="14515" y="192314"/>
                </a:lnTo>
                <a:lnTo>
                  <a:pt x="21772" y="246743"/>
                </a:lnTo>
                <a:lnTo>
                  <a:pt x="58058" y="283029"/>
                </a:lnTo>
                <a:lnTo>
                  <a:pt x="0" y="286657"/>
                </a:lnTo>
                <a:lnTo>
                  <a:pt x="43543" y="362857"/>
                </a:lnTo>
                <a:lnTo>
                  <a:pt x="90715" y="373743"/>
                </a:lnTo>
                <a:lnTo>
                  <a:pt x="108858" y="337457"/>
                </a:lnTo>
                <a:lnTo>
                  <a:pt x="94343" y="290286"/>
                </a:lnTo>
                <a:lnTo>
                  <a:pt x="134258" y="261257"/>
                </a:lnTo>
                <a:lnTo>
                  <a:pt x="159658" y="304800"/>
                </a:lnTo>
                <a:lnTo>
                  <a:pt x="141515" y="362857"/>
                </a:lnTo>
                <a:lnTo>
                  <a:pt x="137886" y="395514"/>
                </a:lnTo>
                <a:lnTo>
                  <a:pt x="210458" y="290286"/>
                </a:lnTo>
                <a:lnTo>
                  <a:pt x="246743" y="250372"/>
                </a:lnTo>
                <a:lnTo>
                  <a:pt x="134258" y="217714"/>
                </a:lnTo>
                <a:lnTo>
                  <a:pt x="195943" y="224972"/>
                </a:lnTo>
                <a:lnTo>
                  <a:pt x="199572" y="192314"/>
                </a:lnTo>
                <a:lnTo>
                  <a:pt x="170543" y="181429"/>
                </a:lnTo>
                <a:lnTo>
                  <a:pt x="228600" y="97972"/>
                </a:lnTo>
                <a:lnTo>
                  <a:pt x="275772" y="83457"/>
                </a:lnTo>
                <a:lnTo>
                  <a:pt x="293915" y="47172"/>
                </a:lnTo>
                <a:lnTo>
                  <a:pt x="246743" y="47172"/>
                </a:lnTo>
                <a:lnTo>
                  <a:pt x="214086" y="68943"/>
                </a:lnTo>
                <a:lnTo>
                  <a:pt x="170543" y="61686"/>
                </a:lnTo>
                <a:lnTo>
                  <a:pt x="20320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9"/>
          <p:cNvSpPr/>
          <p:nvPr/>
        </p:nvSpPr>
        <p:spPr>
          <a:xfrm>
            <a:off x="4535640" y="968400"/>
            <a:ext cx="54000" cy="61920"/>
          </a:xfrm>
          <a:custGeom>
            <a:avLst/>
            <a:gdLst/>
            <a:ahLst/>
            <a:rect l="l" t="t" r="r" b="b"/>
            <a:pathLst>
              <a:path w="54429" h="61685">
                <a:moveTo>
                  <a:pt x="21772" y="0"/>
                </a:moveTo>
                <a:lnTo>
                  <a:pt x="0" y="32657"/>
                </a:lnTo>
                <a:lnTo>
                  <a:pt x="-11107" y="-3851"/>
                </a:lnTo>
                <a:lnTo>
                  <a:pt x="21772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4462560" y="1131840"/>
            <a:ext cx="47520" cy="54000"/>
          </a:xfrm>
          <a:custGeom>
            <a:avLst/>
            <a:gdLst/>
            <a:ahLst/>
            <a:rect l="l" t="t" r="r" b="b"/>
            <a:pathLst>
              <a:path w="47171" h="54429">
                <a:moveTo>
                  <a:pt x="-25622" y="0"/>
                </a:moveTo>
                <a:lnTo>
                  <a:pt x="0" y="21772"/>
                </a:lnTo>
                <a:lnTo>
                  <a:pt x="7257" y="-11107"/>
                </a:lnTo>
                <a:lnTo>
                  <a:pt x="-18365" y="-11107"/>
                </a:lnTo>
                <a:lnTo>
                  <a:pt x="-25622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21503"/>
          <p:cNvSpPr/>
          <p:nvPr/>
        </p:nvSpPr>
        <p:spPr>
          <a:xfrm>
            <a:off x="1658880" y="3351240"/>
            <a:ext cx="1644840" cy="2338200"/>
          </a:xfrm>
          <a:custGeom>
            <a:avLst/>
            <a:gdLst/>
            <a:ahLst/>
            <a:rect l="l" t="t" r="r" b="b"/>
            <a:pathLst>
              <a:path w="1645240" h="2338688">
                <a:moveTo>
                  <a:pt x="1373300" y="98578"/>
                </a:moveTo>
                <a:lnTo>
                  <a:pt x="1254326" y="0"/>
                </a:lnTo>
                <a:lnTo>
                  <a:pt x="1240729" y="50989"/>
                </a:lnTo>
                <a:lnTo>
                  <a:pt x="1162546" y="67985"/>
                </a:lnTo>
                <a:lnTo>
                  <a:pt x="1193139" y="183560"/>
                </a:lnTo>
                <a:lnTo>
                  <a:pt x="1152348" y="224351"/>
                </a:lnTo>
                <a:lnTo>
                  <a:pt x="1145550" y="193758"/>
                </a:lnTo>
                <a:lnTo>
                  <a:pt x="1138751" y="78183"/>
                </a:lnTo>
                <a:lnTo>
                  <a:pt x="1046971" y="95179"/>
                </a:lnTo>
                <a:lnTo>
                  <a:pt x="955191" y="122373"/>
                </a:lnTo>
                <a:lnTo>
                  <a:pt x="870210" y="190358"/>
                </a:lnTo>
                <a:lnTo>
                  <a:pt x="870210" y="282138"/>
                </a:lnTo>
                <a:lnTo>
                  <a:pt x="839617" y="316131"/>
                </a:lnTo>
                <a:lnTo>
                  <a:pt x="836217" y="329728"/>
                </a:lnTo>
                <a:lnTo>
                  <a:pt x="775031" y="360321"/>
                </a:lnTo>
                <a:lnTo>
                  <a:pt x="727441" y="441903"/>
                </a:lnTo>
                <a:lnTo>
                  <a:pt x="815822" y="448702"/>
                </a:lnTo>
                <a:lnTo>
                  <a:pt x="877008" y="448702"/>
                </a:lnTo>
                <a:lnTo>
                  <a:pt x="911001" y="435105"/>
                </a:lnTo>
                <a:lnTo>
                  <a:pt x="941594" y="489493"/>
                </a:lnTo>
                <a:lnTo>
                  <a:pt x="873609" y="547280"/>
                </a:lnTo>
                <a:lnTo>
                  <a:pt x="815822" y="540482"/>
                </a:lnTo>
                <a:lnTo>
                  <a:pt x="815822" y="577874"/>
                </a:lnTo>
                <a:lnTo>
                  <a:pt x="754635" y="581273"/>
                </a:lnTo>
                <a:lnTo>
                  <a:pt x="792027" y="625463"/>
                </a:lnTo>
                <a:lnTo>
                  <a:pt x="724042" y="652657"/>
                </a:lnTo>
                <a:lnTo>
                  <a:pt x="649258" y="622064"/>
                </a:lnTo>
                <a:lnTo>
                  <a:pt x="611866" y="666254"/>
                </a:lnTo>
                <a:lnTo>
                  <a:pt x="557478" y="611866"/>
                </a:lnTo>
                <a:lnTo>
                  <a:pt x="428306" y="591471"/>
                </a:lnTo>
                <a:lnTo>
                  <a:pt x="356922" y="554079"/>
                </a:lnTo>
                <a:lnTo>
                  <a:pt x="353523" y="622064"/>
                </a:lnTo>
                <a:lnTo>
                  <a:pt x="316131" y="598269"/>
                </a:lnTo>
                <a:lnTo>
                  <a:pt x="248146" y="703646"/>
                </a:lnTo>
                <a:lnTo>
                  <a:pt x="295735" y="724042"/>
                </a:lnTo>
                <a:lnTo>
                  <a:pt x="336527" y="649258"/>
                </a:lnTo>
                <a:cubicBezTo>
                  <a:pt x="335394" y="688916"/>
                  <a:pt x="334260" y="728574"/>
                  <a:pt x="333127" y="768232"/>
                </a:cubicBezTo>
                <a:lnTo>
                  <a:pt x="278739" y="768232"/>
                </a:lnTo>
                <a:lnTo>
                  <a:pt x="224351" y="771631"/>
                </a:lnTo>
                <a:lnTo>
                  <a:pt x="254944" y="826019"/>
                </a:lnTo>
                <a:lnTo>
                  <a:pt x="319530" y="866810"/>
                </a:lnTo>
                <a:lnTo>
                  <a:pt x="401112" y="866810"/>
                </a:lnTo>
                <a:lnTo>
                  <a:pt x="397713" y="907601"/>
                </a:lnTo>
                <a:lnTo>
                  <a:pt x="305933" y="914400"/>
                </a:lnTo>
                <a:lnTo>
                  <a:pt x="302534" y="995982"/>
                </a:lnTo>
                <a:lnTo>
                  <a:pt x="231150" y="1026575"/>
                </a:lnTo>
                <a:lnTo>
                  <a:pt x="220952" y="1097960"/>
                </a:lnTo>
                <a:lnTo>
                  <a:pt x="193758" y="1165945"/>
                </a:lnTo>
                <a:lnTo>
                  <a:pt x="271941" y="1172743"/>
                </a:lnTo>
                <a:lnTo>
                  <a:pt x="309333" y="1213534"/>
                </a:lnTo>
                <a:lnTo>
                  <a:pt x="346724" y="1213534"/>
                </a:lnTo>
                <a:lnTo>
                  <a:pt x="373918" y="1261124"/>
                </a:lnTo>
                <a:lnTo>
                  <a:pt x="455501" y="1267923"/>
                </a:lnTo>
                <a:lnTo>
                  <a:pt x="567676" y="1281520"/>
                </a:lnTo>
                <a:lnTo>
                  <a:pt x="564277" y="1312113"/>
                </a:lnTo>
                <a:lnTo>
                  <a:pt x="526885" y="1318911"/>
                </a:lnTo>
                <a:lnTo>
                  <a:pt x="496292" y="1318911"/>
                </a:lnTo>
                <a:lnTo>
                  <a:pt x="411310" y="1458281"/>
                </a:lnTo>
                <a:lnTo>
                  <a:pt x="435105" y="1471878"/>
                </a:lnTo>
                <a:lnTo>
                  <a:pt x="384116" y="1563658"/>
                </a:lnTo>
                <a:lnTo>
                  <a:pt x="295735" y="1597650"/>
                </a:lnTo>
                <a:lnTo>
                  <a:pt x="214153" y="1672434"/>
                </a:lnTo>
                <a:lnTo>
                  <a:pt x="278739" y="1679233"/>
                </a:lnTo>
                <a:lnTo>
                  <a:pt x="339926" y="1631643"/>
                </a:lnTo>
                <a:lnTo>
                  <a:pt x="458900" y="1624845"/>
                </a:lnTo>
                <a:lnTo>
                  <a:pt x="588072" y="1550061"/>
                </a:lnTo>
                <a:lnTo>
                  <a:pt x="581273" y="1614647"/>
                </a:lnTo>
                <a:lnTo>
                  <a:pt x="503090" y="1638442"/>
                </a:lnTo>
                <a:lnTo>
                  <a:pt x="407911" y="1652039"/>
                </a:lnTo>
                <a:lnTo>
                  <a:pt x="305933" y="1686031"/>
                </a:lnTo>
                <a:lnTo>
                  <a:pt x="261743" y="1726822"/>
                </a:lnTo>
                <a:lnTo>
                  <a:pt x="203956" y="1740419"/>
                </a:lnTo>
                <a:lnTo>
                  <a:pt x="244747" y="1774412"/>
                </a:lnTo>
                <a:lnTo>
                  <a:pt x="254944" y="1822001"/>
                </a:lnTo>
                <a:lnTo>
                  <a:pt x="227750" y="1845796"/>
                </a:lnTo>
                <a:lnTo>
                  <a:pt x="197157" y="1798207"/>
                </a:lnTo>
                <a:lnTo>
                  <a:pt x="142769" y="1815203"/>
                </a:lnTo>
                <a:lnTo>
                  <a:pt x="122373" y="1788009"/>
                </a:lnTo>
                <a:lnTo>
                  <a:pt x="54388" y="1825401"/>
                </a:lnTo>
                <a:lnTo>
                  <a:pt x="0" y="1900184"/>
                </a:lnTo>
                <a:lnTo>
                  <a:pt x="108776" y="1930778"/>
                </a:lnTo>
                <a:lnTo>
                  <a:pt x="183560" y="1896785"/>
                </a:lnTo>
                <a:lnTo>
                  <a:pt x="234549" y="1900184"/>
                </a:lnTo>
                <a:lnTo>
                  <a:pt x="176762" y="1951173"/>
                </a:lnTo>
                <a:lnTo>
                  <a:pt x="81582" y="1974968"/>
                </a:lnTo>
                <a:lnTo>
                  <a:pt x="27194" y="2008961"/>
                </a:lnTo>
                <a:lnTo>
                  <a:pt x="20396" y="2059949"/>
                </a:lnTo>
                <a:lnTo>
                  <a:pt x="84982" y="2100740"/>
                </a:lnTo>
                <a:lnTo>
                  <a:pt x="81582" y="2138132"/>
                </a:lnTo>
                <a:lnTo>
                  <a:pt x="163164" y="2127934"/>
                </a:lnTo>
                <a:lnTo>
                  <a:pt x="220952" y="2100740"/>
                </a:lnTo>
                <a:lnTo>
                  <a:pt x="166564" y="2161927"/>
                </a:lnTo>
                <a:lnTo>
                  <a:pt x="88381" y="2199319"/>
                </a:lnTo>
                <a:lnTo>
                  <a:pt x="54388" y="2229912"/>
                </a:lnTo>
                <a:lnTo>
                  <a:pt x="146168" y="2236711"/>
                </a:lnTo>
                <a:lnTo>
                  <a:pt x="234549" y="2185722"/>
                </a:lnTo>
                <a:lnTo>
                  <a:pt x="339926" y="2161927"/>
                </a:lnTo>
                <a:lnTo>
                  <a:pt x="241347" y="2253707"/>
                </a:lnTo>
                <a:lnTo>
                  <a:pt x="197157" y="2325091"/>
                </a:lnTo>
                <a:lnTo>
                  <a:pt x="251545" y="2338688"/>
                </a:lnTo>
                <a:lnTo>
                  <a:pt x="288937" y="2304696"/>
                </a:lnTo>
                <a:lnTo>
                  <a:pt x="336527" y="2328491"/>
                </a:lnTo>
                <a:lnTo>
                  <a:pt x="458900" y="2328491"/>
                </a:lnTo>
                <a:lnTo>
                  <a:pt x="469098" y="2294498"/>
                </a:lnTo>
                <a:lnTo>
                  <a:pt x="520086" y="2311494"/>
                </a:lnTo>
                <a:lnTo>
                  <a:pt x="567676" y="2277502"/>
                </a:lnTo>
                <a:lnTo>
                  <a:pt x="601669" y="2308095"/>
                </a:lnTo>
                <a:lnTo>
                  <a:pt x="645859" y="2246908"/>
                </a:lnTo>
                <a:lnTo>
                  <a:pt x="710445" y="2253707"/>
                </a:lnTo>
                <a:lnTo>
                  <a:pt x="744437" y="2195920"/>
                </a:lnTo>
                <a:lnTo>
                  <a:pt x="781829" y="2165326"/>
                </a:lnTo>
                <a:lnTo>
                  <a:pt x="843016" y="2189121"/>
                </a:lnTo>
                <a:lnTo>
                  <a:pt x="914400" y="2151729"/>
                </a:lnTo>
                <a:lnTo>
                  <a:pt x="955191" y="2100740"/>
                </a:lnTo>
                <a:lnTo>
                  <a:pt x="1016378" y="2090543"/>
                </a:lnTo>
                <a:lnTo>
                  <a:pt x="1060568" y="2029356"/>
                </a:lnTo>
                <a:lnTo>
                  <a:pt x="1125154" y="1995363"/>
                </a:lnTo>
                <a:lnTo>
                  <a:pt x="1240729" y="1991964"/>
                </a:lnTo>
                <a:lnTo>
                  <a:pt x="1356304" y="1961371"/>
                </a:lnTo>
                <a:lnTo>
                  <a:pt x="1400494" y="1998763"/>
                </a:lnTo>
                <a:lnTo>
                  <a:pt x="1468479" y="1978367"/>
                </a:lnTo>
                <a:lnTo>
                  <a:pt x="1485475" y="1930778"/>
                </a:lnTo>
                <a:lnTo>
                  <a:pt x="1461680" y="1869591"/>
                </a:lnTo>
                <a:lnTo>
                  <a:pt x="1529666" y="1781210"/>
                </a:lnTo>
                <a:lnTo>
                  <a:pt x="1539863" y="1699628"/>
                </a:lnTo>
                <a:lnTo>
                  <a:pt x="1635043" y="1533065"/>
                </a:lnTo>
                <a:lnTo>
                  <a:pt x="1597651" y="1301915"/>
                </a:lnTo>
                <a:lnTo>
                  <a:pt x="1570457" y="1257725"/>
                </a:lnTo>
                <a:lnTo>
                  <a:pt x="1604449" y="1250926"/>
                </a:lnTo>
                <a:lnTo>
                  <a:pt x="1584054" y="1206736"/>
                </a:lnTo>
                <a:lnTo>
                  <a:pt x="1607849" y="1162546"/>
                </a:lnTo>
                <a:lnTo>
                  <a:pt x="1567057" y="1097960"/>
                </a:lnTo>
                <a:lnTo>
                  <a:pt x="1563658" y="961990"/>
                </a:lnTo>
                <a:lnTo>
                  <a:pt x="1516069" y="931396"/>
                </a:lnTo>
                <a:lnTo>
                  <a:pt x="1533065" y="870210"/>
                </a:lnTo>
                <a:lnTo>
                  <a:pt x="1607849" y="877008"/>
                </a:lnTo>
                <a:lnTo>
                  <a:pt x="1645240" y="866810"/>
                </a:lnTo>
                <a:lnTo>
                  <a:pt x="1596978" y="816494"/>
                </a:lnTo>
                <a:lnTo>
                  <a:pt x="1465080" y="839616"/>
                </a:lnTo>
                <a:lnTo>
                  <a:pt x="1484414" y="803615"/>
                </a:lnTo>
                <a:lnTo>
                  <a:pt x="1451483" y="778430"/>
                </a:lnTo>
                <a:lnTo>
                  <a:pt x="1403893" y="747836"/>
                </a:lnTo>
                <a:lnTo>
                  <a:pt x="1396307" y="679789"/>
                </a:lnTo>
                <a:lnTo>
                  <a:pt x="1359703" y="622064"/>
                </a:lnTo>
                <a:lnTo>
                  <a:pt x="1274721" y="649258"/>
                </a:lnTo>
                <a:lnTo>
                  <a:pt x="1278121" y="693448"/>
                </a:lnTo>
                <a:lnTo>
                  <a:pt x="1284919" y="727441"/>
                </a:lnTo>
                <a:lnTo>
                  <a:pt x="1240729" y="788627"/>
                </a:lnTo>
                <a:lnTo>
                  <a:pt x="1206045" y="798134"/>
                </a:lnTo>
                <a:lnTo>
                  <a:pt x="1165945" y="795426"/>
                </a:lnTo>
                <a:lnTo>
                  <a:pt x="1126172" y="755980"/>
                </a:lnTo>
                <a:lnTo>
                  <a:pt x="1101359" y="734239"/>
                </a:lnTo>
                <a:lnTo>
                  <a:pt x="1068730" y="743746"/>
                </a:lnTo>
                <a:lnTo>
                  <a:pt x="1063967" y="703646"/>
                </a:lnTo>
                <a:lnTo>
                  <a:pt x="1012979" y="639060"/>
                </a:lnTo>
                <a:lnTo>
                  <a:pt x="977641" y="589762"/>
                </a:lnTo>
                <a:lnTo>
                  <a:pt x="996673" y="558841"/>
                </a:lnTo>
                <a:lnTo>
                  <a:pt x="1077564" y="537082"/>
                </a:lnTo>
                <a:lnTo>
                  <a:pt x="1132315" y="489493"/>
                </a:lnTo>
                <a:lnTo>
                  <a:pt x="1082690" y="433741"/>
                </a:lnTo>
                <a:lnTo>
                  <a:pt x="1178559" y="405184"/>
                </a:lnTo>
                <a:lnTo>
                  <a:pt x="1196538" y="346724"/>
                </a:lnTo>
                <a:lnTo>
                  <a:pt x="1240402" y="255307"/>
                </a:lnTo>
                <a:lnTo>
                  <a:pt x="1359703" y="132571"/>
                </a:lnTo>
                <a:lnTo>
                  <a:pt x="1376885" y="100371"/>
                </a:lnTo>
                <a:lnTo>
                  <a:pt x="1373300" y="985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881600" y="2030400"/>
            <a:ext cx="2252520" cy="5526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T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724360" y="3984480"/>
            <a:ext cx="1872000" cy="5367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979640" y="5732640"/>
            <a:ext cx="1851120" cy="53640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27160" y="2979720"/>
            <a:ext cx="2819160" cy="58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HERN IRE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User</cp:lastModifiedBy>
  <dcterms:modified xsi:type="dcterms:W3CDTF">2012-04-03T05:05:07Z</dcterms:modified>
  <cp:revision>46</cp:revision>
  <dc:subject/>
  <dc:title>PowerPoint Presentation</dc:title>
</cp:coreProperties>
</file>