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480B-D786-4EE2-B3D1-3E880A8A3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8B0F-6C25-446B-BAB0-2FDFBF38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EE7C-2B8A-42AA-8614-4A0232CEA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8130-ABA3-4C51-8B55-BAFB002D1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C698-B732-47D3-95B2-70C018D4E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1DBD3-B581-4164-96EB-A1B8D74F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1007-1F15-4347-8EDF-FC66E8CB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1E9A2-4360-47D4-95E1-FF6645BF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D8EB-F707-4D80-8ADC-B95E4741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7F8AA-E713-4803-AEC3-D572D2CB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6FFE9-E39F-4FC2-B564-0650FEBF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A5ED-1942-4E42-9A0F-E2023AE1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0988-9A02-412F-A410-A61E43E8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239C-786D-4370-8AFB-325194DC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9760-8C11-4DFC-B8AD-D4701A92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209A-F38A-4B2B-A193-A15D9361B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E4E35-DA03-469F-B184-3F2739DB2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C32FF-E304-4B3A-9040-04E3F9473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E5705-E053-4F93-AB57-018788AD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EDBB1-C3AF-476B-9E62-DBA7F7B9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C07D5-2623-4931-8B16-AE4AFE46D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7B84F-BE54-4057-BD9B-8DC3A256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02B7-A092-4747-9DC5-98E819E0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B6D34-F581-4BE5-9A3F-E12AE6DF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56167-B1EB-434C-82D9-E134E97C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F135E-2EA4-49F1-BBF8-9608DA82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970FD-0116-4152-B158-7AF90505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DA311-C61C-40F4-9B5A-8061D9F1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D6645-EF6C-49B3-99FC-CDE97C6B6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3C541-9DEC-4772-B665-E2295264D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31234-22F6-44ED-9668-6EE5E6D6E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B9FBA-323C-446C-88EC-10397166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577F7-6921-4100-AFB9-6FBEEA26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2A60-DBC2-4475-92AC-1BDA089A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CA8B1-BB84-4D26-A592-15A3BA0C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C7919-426A-47EE-9C29-074BEB16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36D7A-CB48-4A03-9349-03D8B80C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A1509-27C4-474F-B7E1-E20BF3F3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4A849-5221-4C18-8697-F5B6484E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43BBC-BAFE-464E-958B-2145135F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DD584-BD47-4D71-9944-02A37F49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B4200-468A-4AF6-BC5E-E3701A11D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CB3B9-CFDB-4055-AA56-B4FF2F346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CBBD0-696A-42BE-AACF-2D118B5A1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2EF8-DC2C-46ED-8E11-07463B04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BEAB9-3DA2-4E11-8533-8E8347F0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1173F-D326-4D64-A537-EB545A6D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69B76-C661-4982-9CF1-84DC8D9A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52EF5-43F4-46E5-92A5-E2D7697D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BDFAD-9D88-4873-8B54-808497F5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AB10E-102C-4F86-A4A8-05288667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36802-8CC4-4A30-A68D-15900D8B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EA620-911D-4DAF-9004-3711AFCD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2B090-A19F-4ACD-B2DB-016F902A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DE0AC-71F3-49B9-ABE3-6B3920E20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1E15-2DF8-43EC-B9CD-4FCF1ECF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84022-4E29-4595-B557-9BB435D8C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3C84-CDEF-4DDF-9032-B1A0F344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9DF7-81A2-41CB-8D67-17999EF4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E22A-BF83-415B-86C8-5C78F12E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72DA-1F9D-4EA2-A45A-99EA8B0676AE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5CA0-0920-428B-B95B-74602F73B25C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1A7C-A129-4B00-A882-71A88E9DE723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DF27-1356-4541-ACBA-84316E684CBF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09B0-A08A-4A7D-B2DD-D6518E82053D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286080" y="536400"/>
            <a:ext cx="5461200" cy="1859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419280" y="2276280"/>
            <a:ext cx="5329080" cy="410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«Средства массовой информации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Обзор  основных новостей»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«Курить — здоровью вредить. Сравнительные предложения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 more the better</a:t>
            </a: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»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5237280" y="1127160"/>
            <a:ext cx="3625560" cy="23050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5389200" y="3282840"/>
            <a:ext cx="3429000" cy="19209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rebuchet MS"/>
              </a:rPr>
              <a:t>«Средства массовой информации. Обзор  основных новостей»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24" name="Рисунок 4" descr="the sun the times.jpg"/>
          <p:cNvPicPr/>
          <p:nvPr/>
        </p:nvPicPr>
        <p:blipFill>
          <a:blip r:embed="rId2"/>
          <a:stretch/>
        </p:blipFill>
        <p:spPr>
          <a:xfrm>
            <a:off x="549360" y="933480"/>
            <a:ext cx="4437000" cy="443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5248440" y="212760"/>
            <a:ext cx="3571560" cy="298764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214600" y="2785680"/>
            <a:ext cx="3714840" cy="371484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Задачи: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познакомить со средствами масс-медиа Великобритании;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выработать умение распознавать лексический материал на слух;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способствовать развитию умений и навыков монологической речи;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создать условия для развития коммуникативных навыков учащихся;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создать условия для развития навыков восприятия речи на слух;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учить выделять главное и делать выводы.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Задачи для учащихся: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учиться спонтанному высказыванию;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практиковать восприятие речи на слух;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применять полученные знания на практике, в устной и письменной речи;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учиться оценивать свою работу;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27" name="Рисунок 4" descr="guardian01.jpg"/>
          <p:cNvPicPr/>
          <p:nvPr/>
        </p:nvPicPr>
        <p:blipFill>
          <a:blip r:embed="rId12"/>
          <a:stretch/>
        </p:blipFill>
        <p:spPr>
          <a:xfrm>
            <a:off x="549360" y="933480"/>
            <a:ext cx="4437000" cy="443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6" dur="20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0" dur="2000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6000"/>
                            </p:stCondLst>
                            <p:childTnLst>
                              <p:par>
                                <p:cTn id="8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4" dur="2000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8000"/>
                            </p:stCondLst>
                            <p:childTnLst>
                              <p:par>
                                <p:cTn id="8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8" dur="2000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9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2" dur="2000"/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1042920" y="817560"/>
            <a:ext cx="6674040" cy="177336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186920" y="2491920"/>
            <a:ext cx="6256440" cy="254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видео о средствах масс-медиа Великобритании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индивидуальные карточки для работы по проверке прослушенного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презентация для закрепления лексики и проверки прослушивания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работа в малых группах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500"/>
                            </p:stCondLst>
                            <p:childTnLst>
                              <p:par>
                                <p:cTn id="1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5187960" y="1146240"/>
            <a:ext cx="3632040" cy="22986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5389200" y="3282840"/>
            <a:ext cx="3429000" cy="19209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««Курить — здоровью вредить. Сравнительные предложения 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e more the better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»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32" name="Рисунок 4" descr="Cigarette_Inside1.jpg"/>
          <p:cNvPicPr/>
          <p:nvPr/>
        </p:nvPicPr>
        <p:blipFill>
          <a:blip r:embed="rId2"/>
          <a:stretch/>
        </p:blipFill>
        <p:spPr>
          <a:xfrm>
            <a:off x="549360" y="933480"/>
            <a:ext cx="4437000" cy="443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5321160" y="360360"/>
            <a:ext cx="3822840" cy="300528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5214960" y="3357720"/>
            <a:ext cx="3929040" cy="33573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rebuchet MS"/>
              </a:rPr>
              <a:t>Задачи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8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rebuchet MS"/>
              </a:rPr>
              <a:t>учить полноценно пользоваться английским языком, овладеть способностями мыслительной деятельности—сравнение, анализ, обобщение;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8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rebuchet MS"/>
              </a:rPr>
              <a:t>способствовать развитию у учащихся умений творчески использовать усвоенный материал в новых ситуациях;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8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rebuchet MS"/>
              </a:rPr>
              <a:t>способствовать развитию умений и навыков монологической речи;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8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rebuchet MS"/>
              </a:rPr>
              <a:t>создать условия для развития коммуникативных навыков учащихся;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80000"/>
              </a:lnSpc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rebuchet MS"/>
              </a:rPr>
              <a:t>создать условия для развития навыков восприятия речи на слух;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80000"/>
              </a:lnSpc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rebuchet MS"/>
              </a:rPr>
              <a:t>учить употреблению сравнительных предложений в устной и письменной речи.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rebuchet MS"/>
              </a:rPr>
              <a:t>Задачи для учащихся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80000"/>
              </a:lnSpc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rebuchet MS"/>
              </a:rPr>
              <a:t>учиться высказывать свою точку зрения;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80000"/>
              </a:lnSpc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rebuchet MS"/>
              </a:rPr>
              <a:t>применять полученные знания на практике, в устной и письменной речи.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80000"/>
              </a:lnSpc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rebuchet MS"/>
              </a:rPr>
              <a:t>учиться оценивать свою работу;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35" name="Рисунок 7" descr=""/>
          <p:cNvPicPr/>
          <p:nvPr/>
        </p:nvPicPr>
        <p:blipFill>
          <a:blip r:embed="rId11"/>
          <a:stretch/>
        </p:blipFill>
        <p:spPr>
          <a:xfrm>
            <a:off x="663480" y="1041480"/>
            <a:ext cx="4206960" cy="4205160"/>
          </a:xfrm>
          <a:prstGeom prst="rect">
            <a:avLst/>
          </a:prstGeom>
          <a:ln w="19080">
            <a:solidFill>
              <a:srgbClr val="b83d68"/>
            </a:solidFill>
            <a:miter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500"/>
                            </p:stCondLst>
                            <p:childTnLst>
                              <p:par>
                                <p:cTn id="2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6500"/>
                            </p:stCondLst>
                            <p:childTnLst>
                              <p:par>
                                <p:cTn id="2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8500"/>
                            </p:stCondLst>
                            <p:childTnLst>
                              <p:par>
                                <p:cTn id="2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2500"/>
                            </p:stCondLst>
                            <p:childTnLst>
                              <p:par>
                                <p:cTn id="2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4500"/>
                            </p:stCondLst>
                            <p:childTnLst>
                              <p:par>
                                <p:cTn id="2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6500"/>
                            </p:stCondLst>
                            <p:childTnLst>
                              <p:par>
                                <p:cTn id="316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8500"/>
                            </p:stCondLst>
                            <p:childTnLst>
                              <p:par>
                                <p:cTn id="322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28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2500"/>
                            </p:stCondLst>
                            <p:childTnLst>
                              <p:par>
                                <p:cTn id="334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1042920" y="817560"/>
            <a:ext cx="6674040" cy="17733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186920" y="2565360"/>
            <a:ext cx="6256440" cy="367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видеопрограмма о подростковом курении в Америке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индивидуальные карточки для работы по проверке прослушенного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презентация для введения новой лексики по теме с аудио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индивидуальная работа за компьютерами по мини-тесту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культурологический аспект из истории страны изучаемого языка—история ковбоя Мальборо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4000"/>
                            </p:stCondLst>
                            <p:childTnLst>
                              <p:par>
                                <p:cTn id="3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6000"/>
                            </p:stCondLst>
                            <p:childTnLst>
                              <p:par>
                                <p:cTn id="38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8000"/>
                            </p:stCondLst>
                            <p:childTnLst>
                              <p:par>
                                <p:cTn id="3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7T10:42:22Z</dcterms:created>
  <dc:creator>biblio</dc:creator>
  <dc:description/>
  <dc:language>en-US</dc:language>
  <cp:lastModifiedBy>SH8</cp:lastModifiedBy>
  <dcterms:modified xsi:type="dcterms:W3CDTF">2012-12-17T14:42:51Z</dcterms:modified>
  <cp:revision>6</cp:revision>
  <dc:subject/>
  <dc:title>Уроки по темам:</dc:title>
</cp:coreProperties>
</file>